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F34-ACC0-4E0F-B456-E28D8D8B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411-88FA-40D5-8072-508D3262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663-6E21-499E-BA59-142024FB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BE1-D094-4133-9BC4-AC813DA6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827-9065-40B8-AD60-AD7BBDA3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E27-0182-45F1-8CDD-F0FFDD2F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5CB-3FF9-4298-B076-756FFEFC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A45-113F-407C-97BC-0F072EA4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0CA-AFFA-4EF5-87A4-7F299936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D3D-7271-4F66-A7FA-4D933717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7D6-3BFC-43CC-A050-5867F6A3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937-ECBD-4C5C-8B6D-7B5407CA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E817-0916-4A9D-B265-37EF67BAF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Ejemplo%20Coches/Normalizaci&#243;n%20de%20coordenadas.xls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C:\Archivos de programa\SPSS\spsswin.exe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C:\Archivos de programa\SPSS\spsswin.exe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C:\Archivos de programa\SPSS\spsswin.exe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C:\Archivos de programa\SPSS\spsswin.exe" TargetMode="Externa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C:\Archivos de programa\SPSS\spsswin.exe" TargetMode="Externa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43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1752480"/>
            <a:ext cx="4724280" cy="3124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El Escalamiento Multidimensiona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Aplicaciones 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estudio de las percep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3000" y="22392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vestigación de Mercados 2. Tema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2200" y="223920"/>
            <a:ext cx="73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troducción: Comparación con otras técnicas de inter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4840" y="2560680"/>
            <a:ext cx="6346800" cy="2590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Franklin Gothic Medium Cond"/>
              </a:rPr>
              <a:t>En EMD podemos obtener u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Franklin Gothic Medium Cond"/>
              </a:rPr>
              <a:t>solución para cada individu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74840" y="2560680"/>
            <a:ext cx="6346800" cy="2590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Franklin Gothic Medium Cond"/>
              </a:rPr>
              <a:t>El EMD no requiere la especificación previa de los atributos a considerar en las evalu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474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0" y="365760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1752480"/>
            <a:ext cx="4724280" cy="3124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proceso de elab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de mapas percep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53000" y="22392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vestigación de Mercados 2. Tema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487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0" y="365760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0" y="3657600"/>
            <a:ext cx="1600200" cy="992520"/>
            <a:chOff x="0" y="3657600"/>
            <a:chExt cx="1600200" cy="992520"/>
          </a:xfrm>
        </p:grpSpPr>
        <p:sp>
          <p:nvSpPr>
            <p:cNvPr id="495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00200" y="223920"/>
            <a:ext cx="73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Proceso de elaboración de mapas perceptuales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Objetivos del E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0" y="198108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nfoque explor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Identificar dimensiones no reconoc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susceptibles de afectar al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505320"/>
            <a:ext cx="6858000" cy="19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nfoque descrip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Obtener evaluaciones comparativas de ob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n aquellos casos en los que las bas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omparación son desconocidas o no está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efin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505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5480" y="223920"/>
            <a:ext cx="80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Proceso de elaboración de mapas perceptuales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especificaciones del E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86000" y="990720"/>
            <a:ext cx="6858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Selección de los objetos a eval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eterminación del número de objetos a evalu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Selección de los objetos rele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2438280"/>
            <a:ext cx="6858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lección del tipo de datos a obtener y ana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atos de similitudes-disimil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atos de pre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0" y="3886200"/>
            <a:ext cx="6858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lección del tipo de análisis a rea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des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0" y="5334120"/>
            <a:ext cx="6858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lección del método de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étodos no 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étodos 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7924680" y="990720"/>
            <a:ext cx="1143000" cy="5638680"/>
            <a:chOff x="7924680" y="990720"/>
            <a:chExt cx="1143000" cy="5638680"/>
          </a:xfrm>
        </p:grpSpPr>
        <p:sp>
          <p:nvSpPr>
            <p:cNvPr id="520" name=""/>
            <p:cNvSpPr/>
            <p:nvPr/>
          </p:nvSpPr>
          <p:spPr>
            <a:xfrm>
              <a:off x="7924680" y="990720"/>
              <a:ext cx="1143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200" spc="-1" strike="noStrike">
                  <a:solidFill>
                    <a:srgbClr val="ff9900"/>
                  </a:solidFill>
                  <a:latin typeface="Franklin Gothic Medium Cond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24680" y="2438280"/>
              <a:ext cx="11430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200" spc="-1" strike="noStrike">
                  <a:solidFill>
                    <a:srgbClr val="ff9900"/>
                  </a:solidFill>
                  <a:latin typeface="Franklin Gothic Medium Cond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24680" y="3886200"/>
              <a:ext cx="1143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200" spc="-1" strike="noStrike">
                  <a:solidFill>
                    <a:srgbClr val="ff9900"/>
                  </a:solidFill>
                  <a:latin typeface="Franklin Gothic Medium Cond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24680" y="5334120"/>
              <a:ext cx="1143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200" spc="-1" strike="noStrike">
                  <a:solidFill>
                    <a:srgbClr val="ff9900"/>
                  </a:solidFill>
                  <a:latin typeface="Franklin Gothic Medium Cond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525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2640" y="223920"/>
            <a:ext cx="74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Proceso de elaboración de mapas perceptuales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supuestos del E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0" y="1676520"/>
            <a:ext cx="6858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ada individuo percibirá los estím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n función de unas dimensiones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trib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0" y="3124080"/>
            <a:ext cx="6858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No todos los individuos otorgan la m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importancia a determinada dimensión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trib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4572000"/>
            <a:ext cx="6858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Las evaluaciones de cada estím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no tienen por qué mantenerse es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7924680" y="1676520"/>
            <a:ext cx="1143000" cy="4190760"/>
            <a:chOff x="7924680" y="1676520"/>
            <a:chExt cx="1143000" cy="4190760"/>
          </a:xfrm>
        </p:grpSpPr>
        <p:sp>
          <p:nvSpPr>
            <p:cNvPr id="539" name=""/>
            <p:cNvSpPr/>
            <p:nvPr/>
          </p:nvSpPr>
          <p:spPr>
            <a:xfrm>
              <a:off x="7924680" y="1676520"/>
              <a:ext cx="1143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200" spc="-1" strike="noStrike">
                  <a:solidFill>
                    <a:srgbClr val="ff9900"/>
                  </a:solidFill>
                  <a:latin typeface="Franklin Gothic Medium Cond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24680" y="3124080"/>
              <a:ext cx="11430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200" spc="-1" strike="noStrike">
                  <a:solidFill>
                    <a:srgbClr val="ff9900"/>
                  </a:solidFill>
                  <a:latin typeface="Franklin Gothic Medium Cond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24680" y="4572000"/>
              <a:ext cx="1143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200" spc="-1" strike="noStrike">
                  <a:solidFill>
                    <a:srgbClr val="ff9900"/>
                  </a:solidFill>
                  <a:latin typeface="Franklin Gothic Medium Cond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543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0720" y="223920"/>
            <a:ext cx="87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Proceso de elaboración de mapas perceptuales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determinación de un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33640" y="990720"/>
            <a:ext cx="1981440" cy="7617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Selección de u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configuración in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933640" y="2133720"/>
            <a:ext cx="1981440" cy="7617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Cálculo de dis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entre pu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33640" y="3276720"/>
            <a:ext cx="1981440" cy="7617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Evaluación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ajuste (str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4267080"/>
            <a:ext cx="2209680" cy="1295640"/>
          </a:xfrm>
          <a:prstGeom prst="diamond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¿Satisfactor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33640" y="5791320"/>
            <a:ext cx="1981440" cy="7617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Determina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una nueva sol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943600" y="4267080"/>
            <a:ext cx="2209680" cy="1295640"/>
          </a:xfrm>
          <a:prstGeom prst="diamond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¿Es posible reduci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dimensio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58080" y="5791320"/>
            <a:ext cx="1981080" cy="7617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Interpre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58080" y="990720"/>
            <a:ext cx="1981080" cy="7617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 Cond"/>
              </a:rPr>
              <a:t>Reducción del num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 Cond"/>
              </a:rPr>
              <a:t>de dim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53" idx="2"/>
            <a:endCxn id="554" idx="0"/>
          </p:cNvCxnSpPr>
          <p:nvPr/>
        </p:nvCxnSpPr>
        <p:spPr>
          <a:xfrm flipV="1" rot="10800000">
            <a:off x="3923640" y="1766520"/>
            <a:ext cx="1080" cy="3531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562" name=""/>
          <p:cNvCxnSpPr>
            <a:stCxn id="554" idx="2"/>
            <a:endCxn id="555" idx="0"/>
          </p:cNvCxnSpPr>
          <p:nvPr/>
        </p:nvCxnSpPr>
        <p:spPr>
          <a:xfrm flipV="1" rot="10800000">
            <a:off x="3923640" y="2909520"/>
            <a:ext cx="1080" cy="3531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563" name=""/>
          <p:cNvCxnSpPr>
            <a:stCxn id="555" idx="2"/>
            <a:endCxn id="556" idx="0"/>
          </p:cNvCxnSpPr>
          <p:nvPr/>
        </p:nvCxnSpPr>
        <p:spPr>
          <a:xfrm flipV="1" rot="10800000">
            <a:off x="3923640" y="4052520"/>
            <a:ext cx="1080" cy="2008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564" name=""/>
          <p:cNvCxnSpPr>
            <a:stCxn id="556" idx="2"/>
            <a:endCxn id="557" idx="0"/>
          </p:cNvCxnSpPr>
          <p:nvPr/>
        </p:nvCxnSpPr>
        <p:spPr>
          <a:xfrm flipV="1" rot="10800000">
            <a:off x="3923640" y="5576400"/>
            <a:ext cx="1080" cy="2008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565" name=""/>
          <p:cNvCxnSpPr>
            <a:stCxn id="556" idx="3"/>
            <a:endCxn id="558" idx="1"/>
          </p:cNvCxnSpPr>
          <p:nvPr/>
        </p:nvCxnSpPr>
        <p:spPr>
          <a:xfrm>
            <a:off x="5043600" y="4914720"/>
            <a:ext cx="88632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566" name=""/>
          <p:cNvCxnSpPr>
            <a:stCxn id="558" idx="0"/>
            <a:endCxn id="560" idx="2"/>
          </p:cNvCxnSpPr>
          <p:nvPr/>
        </p:nvCxnSpPr>
        <p:spPr>
          <a:xfrm flipV="1">
            <a:off x="7048080" y="1766520"/>
            <a:ext cx="1080" cy="24868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567" name=""/>
          <p:cNvCxnSpPr>
            <a:stCxn id="560" idx="1"/>
            <a:endCxn id="553" idx="3"/>
          </p:cNvCxnSpPr>
          <p:nvPr/>
        </p:nvCxnSpPr>
        <p:spPr>
          <a:xfrm rot="10800000">
            <a:off x="4928400" y="1370880"/>
            <a:ext cx="111528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568" name=""/>
          <p:cNvCxnSpPr>
            <a:stCxn id="557" idx="1"/>
            <a:endCxn id="554" idx="1"/>
          </p:cNvCxnSpPr>
          <p:nvPr/>
        </p:nvCxnSpPr>
        <p:spPr>
          <a:xfrm flipH="1" rot="10800000">
            <a:off x="2918160" y="2513880"/>
            <a:ext cx="2520" cy="3658320"/>
          </a:xfrm>
          <a:prstGeom prst="bentConnector3">
            <a:avLst>
              <a:gd name="adj1" fmla="val -31500000"/>
            </a:avLst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569" name=""/>
          <p:cNvCxnSpPr>
            <a:stCxn id="558" idx="2"/>
            <a:endCxn id="559" idx="0"/>
          </p:cNvCxnSpPr>
          <p:nvPr/>
        </p:nvCxnSpPr>
        <p:spPr>
          <a:xfrm flipV="1" rot="10800000">
            <a:off x="7047720" y="5576400"/>
            <a:ext cx="1080" cy="2008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570" name=""/>
          <p:cNvSpPr/>
          <p:nvPr/>
        </p:nvSpPr>
        <p:spPr>
          <a:xfrm>
            <a:off x="5015160" y="46162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9900"/>
                </a:solidFill>
                <a:latin typeface="Franklin Gothic Medium Cond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43800" y="54864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9900"/>
                </a:solidFill>
                <a:latin typeface="Franklin Gothic Medium Cond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72560" y="396252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9900"/>
                </a:solidFill>
                <a:latin typeface="Franklin Gothic Medium Cond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58520" y="54864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9900"/>
                </a:solidFill>
                <a:latin typeface="Franklin Gothic Medium Cond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575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0720" y="223920"/>
            <a:ext cx="87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Proceso de elaboración de mapas perceptuales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determinación de un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atriz de disimil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362320" y="2209680"/>
            <a:ext cx="6553080" cy="4496040"/>
            <a:chOff x="2362320" y="2209680"/>
            <a:chExt cx="6553080" cy="4496040"/>
          </a:xfrm>
        </p:grpSpPr>
        <p:sp>
          <p:nvSpPr>
            <p:cNvPr id="587" name=""/>
            <p:cNvSpPr/>
            <p:nvPr/>
          </p:nvSpPr>
          <p:spPr>
            <a:xfrm>
              <a:off x="2362320" y="2209680"/>
              <a:ext cx="6553080" cy="4496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2438280" y="2286000"/>
              <a:ext cx="6324840" cy="4191120"/>
              <a:chOff x="2438280" y="2286000"/>
              <a:chExt cx="6324840" cy="4191120"/>
            </a:xfrm>
          </p:grpSpPr>
          <p:sp>
            <p:nvSpPr>
              <p:cNvPr id="589" name=""/>
              <p:cNvSpPr/>
              <p:nvPr/>
            </p:nvSpPr>
            <p:spPr>
              <a:xfrm>
                <a:off x="2438280" y="2286000"/>
                <a:ext cx="838440" cy="53352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52680" y="22860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267080" y="22860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181480" y="22860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95880" y="22860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010280" y="22860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924680" y="22860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38280" y="289548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438280" y="3505320"/>
                <a:ext cx="838440" cy="533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438280" y="41148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438280" y="472428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438280" y="5334120"/>
                <a:ext cx="838440" cy="533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438280" y="59436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352680" y="2895480"/>
              <a:ext cx="5410440" cy="3581640"/>
              <a:chOff x="3352680" y="2895480"/>
              <a:chExt cx="5410440" cy="3581640"/>
            </a:xfrm>
          </p:grpSpPr>
          <p:sp>
            <p:nvSpPr>
              <p:cNvPr id="603" name=""/>
              <p:cNvSpPr/>
              <p:nvPr/>
            </p:nvSpPr>
            <p:spPr>
              <a:xfrm>
                <a:off x="3352680" y="289548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267080" y="3505320"/>
                <a:ext cx="838440" cy="533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181480" y="41148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095880" y="472428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010280" y="5334120"/>
                <a:ext cx="838440" cy="533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24680" y="59436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33526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3526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526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3526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670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670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814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814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814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958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958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102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onfigura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209680" y="2139480"/>
            <a:ext cx="6775920" cy="4644000"/>
            <a:chOff x="2209680" y="2139480"/>
            <a:chExt cx="6775920" cy="4644000"/>
          </a:xfrm>
        </p:grpSpPr>
        <p:sp>
          <p:nvSpPr>
            <p:cNvPr id="626" name=""/>
            <p:cNvSpPr/>
            <p:nvPr/>
          </p:nvSpPr>
          <p:spPr>
            <a:xfrm>
              <a:off x="2286000" y="2209680"/>
              <a:ext cx="6629400" cy="4496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3080" y="64152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imensió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1627560" y="27216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imensió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90920" y="2362320"/>
              <a:ext cx="6095880" cy="403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5623920" y="2971800"/>
              <a:ext cx="326880" cy="444240"/>
              <a:chOff x="5623920" y="2971800"/>
              <a:chExt cx="326880" cy="444240"/>
            </a:xfrm>
          </p:grpSpPr>
          <p:sp>
            <p:nvSpPr>
              <p:cNvPr id="631" name=""/>
              <p:cNvSpPr/>
              <p:nvPr/>
            </p:nvSpPr>
            <p:spPr>
              <a:xfrm>
                <a:off x="5715000" y="2971800"/>
                <a:ext cx="108000" cy="10764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23920" y="30477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789440" y="3124080"/>
              <a:ext cx="330120" cy="444600"/>
              <a:chOff x="4789440" y="3124080"/>
              <a:chExt cx="330120" cy="444600"/>
            </a:xfrm>
          </p:grpSpPr>
          <p:sp>
            <p:nvSpPr>
              <p:cNvPr id="634" name=""/>
              <p:cNvSpPr/>
              <p:nvPr/>
            </p:nvSpPr>
            <p:spPr>
              <a:xfrm>
                <a:off x="4876920" y="3124080"/>
                <a:ext cx="108000" cy="108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789440" y="320040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258080" y="3962520"/>
              <a:ext cx="299520" cy="444240"/>
              <a:chOff x="4258080" y="3962520"/>
              <a:chExt cx="299520" cy="444240"/>
            </a:xfrm>
          </p:grpSpPr>
          <p:sp>
            <p:nvSpPr>
              <p:cNvPr id="637" name=""/>
              <p:cNvSpPr/>
              <p:nvPr/>
            </p:nvSpPr>
            <p:spPr>
              <a:xfrm>
                <a:off x="4343400" y="3962520"/>
                <a:ext cx="108000" cy="108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58080" y="403848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638680" y="23623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90920" y="438156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6078240" y="4800600"/>
              <a:ext cx="348480" cy="444600"/>
              <a:chOff x="6078240" y="4800600"/>
              <a:chExt cx="348480" cy="444600"/>
            </a:xfrm>
          </p:grpSpPr>
          <p:sp>
            <p:nvSpPr>
              <p:cNvPr id="642" name=""/>
              <p:cNvSpPr/>
              <p:nvPr/>
            </p:nvSpPr>
            <p:spPr>
              <a:xfrm>
                <a:off x="6172200" y="4800600"/>
                <a:ext cx="108000" cy="108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078240" y="487692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6544080" y="3733920"/>
              <a:ext cx="307080" cy="444600"/>
              <a:chOff x="6544080" y="3733920"/>
              <a:chExt cx="307080" cy="444600"/>
            </a:xfrm>
          </p:grpSpPr>
          <p:sp>
            <p:nvSpPr>
              <p:cNvPr id="645" name=""/>
              <p:cNvSpPr/>
              <p:nvPr/>
            </p:nvSpPr>
            <p:spPr>
              <a:xfrm>
                <a:off x="6629400" y="3733920"/>
                <a:ext cx="108000" cy="108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544080" y="3810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790520" y="4876920"/>
              <a:ext cx="325440" cy="444240"/>
              <a:chOff x="4790520" y="4876920"/>
              <a:chExt cx="325440" cy="444240"/>
            </a:xfrm>
          </p:grpSpPr>
          <p:sp>
            <p:nvSpPr>
              <p:cNvPr id="648" name=""/>
              <p:cNvSpPr/>
              <p:nvPr/>
            </p:nvSpPr>
            <p:spPr>
              <a:xfrm>
                <a:off x="4876920" y="4876920"/>
                <a:ext cx="108000" cy="108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790520" y="49528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0" name=""/>
          <p:cNvGrpSpPr/>
          <p:nvPr/>
        </p:nvGrpSpPr>
        <p:grpSpPr>
          <a:xfrm>
            <a:off x="2209680" y="1143000"/>
            <a:ext cx="6934320" cy="5640480"/>
            <a:chOff x="2209680" y="1143000"/>
            <a:chExt cx="6934320" cy="5640480"/>
          </a:xfrm>
        </p:grpSpPr>
        <p:grpSp>
          <p:nvGrpSpPr>
            <p:cNvPr id="651" name=""/>
            <p:cNvGrpSpPr/>
            <p:nvPr/>
          </p:nvGrpSpPr>
          <p:grpSpPr>
            <a:xfrm>
              <a:off x="2209680" y="2139480"/>
              <a:ext cx="6775920" cy="4644000"/>
              <a:chOff x="2209680" y="2139480"/>
              <a:chExt cx="6775920" cy="4644000"/>
            </a:xfrm>
          </p:grpSpPr>
          <p:sp>
            <p:nvSpPr>
              <p:cNvPr id="652" name=""/>
              <p:cNvSpPr/>
              <p:nvPr/>
            </p:nvSpPr>
            <p:spPr>
              <a:xfrm>
                <a:off x="2286000" y="2209680"/>
                <a:ext cx="6629400" cy="4496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453080" y="641520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imensión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6200000">
                <a:off x="1627560" y="272160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imensión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590920" y="2362320"/>
                <a:ext cx="6095880" cy="4038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5623920" y="3124080"/>
                <a:ext cx="326880" cy="444600"/>
                <a:chOff x="5623920" y="3124080"/>
                <a:chExt cx="326880" cy="44460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5715000" y="312408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623920" y="320040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5018040" y="3214800"/>
                <a:ext cx="330120" cy="444600"/>
                <a:chOff x="5018040" y="3214800"/>
                <a:chExt cx="330120" cy="44460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5105520" y="321480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018040" y="3291120"/>
                  <a:ext cx="33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3953160" y="3962520"/>
                <a:ext cx="299520" cy="444240"/>
                <a:chOff x="3953160" y="3962520"/>
                <a:chExt cx="299520" cy="4442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038480" y="3962520"/>
                  <a:ext cx="10764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3953160" y="4038480"/>
                  <a:ext cx="299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5" name=""/>
              <p:cNvSpPr/>
              <p:nvPr/>
            </p:nvSpPr>
            <p:spPr>
              <a:xfrm>
                <a:off x="5638680" y="236232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90920" y="4381560"/>
                <a:ext cx="60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6383160" y="4662360"/>
                <a:ext cx="348480" cy="444600"/>
                <a:chOff x="6383160" y="4662360"/>
                <a:chExt cx="348480" cy="44460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6477120" y="466236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6383160" y="4738680"/>
                  <a:ext cx="34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6712560" y="4114800"/>
                <a:ext cx="307080" cy="444600"/>
                <a:chOff x="6712560" y="4114800"/>
                <a:chExt cx="307080" cy="44460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6797520" y="4114800"/>
                  <a:ext cx="10764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6712560" y="41911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5095080" y="5195880"/>
                <a:ext cx="325440" cy="444240"/>
                <a:chOff x="5095080" y="5195880"/>
                <a:chExt cx="325440" cy="44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5181480" y="5195880"/>
                  <a:ext cx="10764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095080" y="5271840"/>
                  <a:ext cx="325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6" name=""/>
            <p:cNvSpPr/>
            <p:nvPr/>
          </p:nvSpPr>
          <p:spPr>
            <a:xfrm>
              <a:off x="2286000" y="1143000"/>
              <a:ext cx="6858000" cy="685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209680" y="1143000"/>
            <a:ext cx="6934320" cy="5640480"/>
            <a:chOff x="2209680" y="1143000"/>
            <a:chExt cx="6934320" cy="5640480"/>
          </a:xfrm>
        </p:grpSpPr>
        <p:grpSp>
          <p:nvGrpSpPr>
            <p:cNvPr id="678" name=""/>
            <p:cNvGrpSpPr/>
            <p:nvPr/>
          </p:nvGrpSpPr>
          <p:grpSpPr>
            <a:xfrm>
              <a:off x="2209680" y="2139480"/>
              <a:ext cx="6775920" cy="4644000"/>
              <a:chOff x="2209680" y="2139480"/>
              <a:chExt cx="6775920" cy="4644000"/>
            </a:xfrm>
          </p:grpSpPr>
          <p:sp>
            <p:nvSpPr>
              <p:cNvPr id="679" name=""/>
              <p:cNvSpPr/>
              <p:nvPr/>
            </p:nvSpPr>
            <p:spPr>
              <a:xfrm>
                <a:off x="2286000" y="2209680"/>
                <a:ext cx="6629400" cy="4496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453080" y="641520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imensión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6200000">
                <a:off x="1627560" y="272160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imensión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590920" y="2362320"/>
                <a:ext cx="6095880" cy="4038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5623920" y="3214800"/>
                <a:ext cx="326880" cy="444240"/>
                <a:chOff x="5623920" y="3214800"/>
                <a:chExt cx="326880" cy="4442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5715000" y="3214800"/>
                  <a:ext cx="108000" cy="107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623920" y="329076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5094360" y="3200400"/>
                <a:ext cx="330120" cy="444600"/>
                <a:chOff x="5094360" y="3200400"/>
                <a:chExt cx="330120" cy="44460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5181840" y="320040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094360" y="3276720"/>
                  <a:ext cx="33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3800880" y="3962520"/>
                <a:ext cx="299520" cy="444240"/>
                <a:chOff x="3800880" y="3962520"/>
                <a:chExt cx="299520" cy="44424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3886200" y="396252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800880" y="4038480"/>
                  <a:ext cx="299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" name=""/>
              <p:cNvSpPr/>
              <p:nvPr/>
            </p:nvSpPr>
            <p:spPr>
              <a:xfrm>
                <a:off x="5638680" y="236232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590920" y="4381560"/>
                <a:ext cx="60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6679800" y="4510080"/>
                <a:ext cx="348480" cy="444600"/>
                <a:chOff x="6679800" y="4510080"/>
                <a:chExt cx="348480" cy="44460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6773760" y="4510080"/>
                  <a:ext cx="10764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679800" y="4586400"/>
                  <a:ext cx="34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864840" y="4343400"/>
                <a:ext cx="307080" cy="444600"/>
                <a:chOff x="6864840" y="4343400"/>
                <a:chExt cx="307080" cy="4446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950160" y="434340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864840" y="44197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5095080" y="5424480"/>
                <a:ext cx="325440" cy="444240"/>
                <a:chOff x="5095080" y="5424480"/>
                <a:chExt cx="325440" cy="44424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5181480" y="5424480"/>
                  <a:ext cx="10764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095080" y="5500440"/>
                  <a:ext cx="325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3" name=""/>
            <p:cNvSpPr/>
            <p:nvPr/>
          </p:nvSpPr>
          <p:spPr>
            <a:xfrm>
              <a:off x="2286000" y="1143000"/>
              <a:ext cx="6858000" cy="685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209680" y="1143000"/>
            <a:ext cx="6934320" cy="5640480"/>
            <a:chOff x="2209680" y="1143000"/>
            <a:chExt cx="6934320" cy="5640480"/>
          </a:xfrm>
        </p:grpSpPr>
        <p:grpSp>
          <p:nvGrpSpPr>
            <p:cNvPr id="705" name=""/>
            <p:cNvGrpSpPr/>
            <p:nvPr/>
          </p:nvGrpSpPr>
          <p:grpSpPr>
            <a:xfrm>
              <a:off x="2209680" y="2139480"/>
              <a:ext cx="6775920" cy="4644000"/>
              <a:chOff x="2209680" y="2139480"/>
              <a:chExt cx="6775920" cy="4644000"/>
            </a:xfrm>
          </p:grpSpPr>
          <p:sp>
            <p:nvSpPr>
              <p:cNvPr id="706" name=""/>
              <p:cNvSpPr/>
              <p:nvPr/>
            </p:nvSpPr>
            <p:spPr>
              <a:xfrm>
                <a:off x="2286000" y="2209680"/>
                <a:ext cx="6629400" cy="4496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53080" y="641520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imensión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6200000">
                <a:off x="1627560" y="272160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imensión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590920" y="2362320"/>
                <a:ext cx="6095880" cy="4038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"/>
              <p:cNvGrpSpPr/>
              <p:nvPr/>
            </p:nvGrpSpPr>
            <p:grpSpPr>
              <a:xfrm>
                <a:off x="5623920" y="3214800"/>
                <a:ext cx="326880" cy="444240"/>
                <a:chOff x="5623920" y="3214800"/>
                <a:chExt cx="326880" cy="44424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5715000" y="3214800"/>
                  <a:ext cx="108000" cy="107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623920" y="329076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5167440" y="3290760"/>
                <a:ext cx="330120" cy="444600"/>
                <a:chOff x="5167440" y="3290760"/>
                <a:chExt cx="330120" cy="44460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5254920" y="329076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167440" y="3367080"/>
                  <a:ext cx="33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3572280" y="3962520"/>
                <a:ext cx="299520" cy="444240"/>
                <a:chOff x="3572280" y="3962520"/>
                <a:chExt cx="299520" cy="44424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3657600" y="396252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572280" y="4038480"/>
                  <a:ext cx="299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5638680" y="236232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590920" y="4381560"/>
                <a:ext cx="60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6832440" y="4510080"/>
                <a:ext cx="348480" cy="444600"/>
                <a:chOff x="6832440" y="4510080"/>
                <a:chExt cx="348480" cy="44460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6926400" y="451008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832440" y="4586400"/>
                  <a:ext cx="34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017120" y="4343400"/>
                <a:ext cx="307080" cy="444600"/>
                <a:chOff x="7017120" y="4343400"/>
                <a:chExt cx="307080" cy="4446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7102440" y="434340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017120" y="44197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5095080" y="5576760"/>
                <a:ext cx="325440" cy="444240"/>
                <a:chOff x="5095080" y="5576760"/>
                <a:chExt cx="325440" cy="4442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181480" y="5576760"/>
                  <a:ext cx="10764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095080" y="5652720"/>
                  <a:ext cx="325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0" name=""/>
            <p:cNvSpPr/>
            <p:nvPr/>
          </p:nvSpPr>
          <p:spPr>
            <a:xfrm>
              <a:off x="2286000" y="1143000"/>
              <a:ext cx="6858000" cy="685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2209680" y="1143000"/>
            <a:ext cx="6934320" cy="5640480"/>
            <a:chOff x="2209680" y="1143000"/>
            <a:chExt cx="6934320" cy="5640480"/>
          </a:xfrm>
        </p:grpSpPr>
        <p:grpSp>
          <p:nvGrpSpPr>
            <p:cNvPr id="732" name=""/>
            <p:cNvGrpSpPr/>
            <p:nvPr/>
          </p:nvGrpSpPr>
          <p:grpSpPr>
            <a:xfrm>
              <a:off x="2209680" y="2139480"/>
              <a:ext cx="6775920" cy="4644000"/>
              <a:chOff x="2209680" y="2139480"/>
              <a:chExt cx="6775920" cy="4644000"/>
            </a:xfrm>
          </p:grpSpPr>
          <p:sp>
            <p:nvSpPr>
              <p:cNvPr id="733" name=""/>
              <p:cNvSpPr/>
              <p:nvPr/>
            </p:nvSpPr>
            <p:spPr>
              <a:xfrm>
                <a:off x="2286000" y="2209680"/>
                <a:ext cx="6629400" cy="4496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453080" y="641520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imensión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6200000">
                <a:off x="1627560" y="272160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imensión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590920" y="2362320"/>
                <a:ext cx="6095880" cy="4038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5623920" y="3214800"/>
                <a:ext cx="326880" cy="444240"/>
                <a:chOff x="5623920" y="3214800"/>
                <a:chExt cx="326880" cy="44424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5715000" y="3214800"/>
                  <a:ext cx="108000" cy="107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623920" y="329076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5167440" y="3290760"/>
                <a:ext cx="330120" cy="444600"/>
                <a:chOff x="5167440" y="3290760"/>
                <a:chExt cx="330120" cy="44460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5254920" y="329076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167440" y="3367080"/>
                  <a:ext cx="33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3420000" y="3962520"/>
                <a:ext cx="299520" cy="444240"/>
                <a:chOff x="3420000" y="3962520"/>
                <a:chExt cx="299520" cy="44424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3505320" y="396252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420000" y="4038480"/>
                  <a:ext cx="299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6" name=""/>
              <p:cNvSpPr/>
              <p:nvPr/>
            </p:nvSpPr>
            <p:spPr>
              <a:xfrm>
                <a:off x="5638680" y="236232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90920" y="4381560"/>
                <a:ext cx="60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8" name=""/>
              <p:cNvGrpSpPr/>
              <p:nvPr/>
            </p:nvGrpSpPr>
            <p:grpSpPr>
              <a:xfrm>
                <a:off x="6908400" y="4510080"/>
                <a:ext cx="348480" cy="444600"/>
                <a:chOff x="6908400" y="4510080"/>
                <a:chExt cx="348480" cy="44460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7002360" y="4510080"/>
                  <a:ext cx="10764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908400" y="4586400"/>
                  <a:ext cx="34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7093440" y="4343400"/>
                <a:ext cx="307080" cy="444600"/>
                <a:chOff x="7093440" y="4343400"/>
                <a:chExt cx="307080" cy="44460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7178760" y="434340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093440" y="44197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5095080" y="5653080"/>
                <a:ext cx="325440" cy="444240"/>
                <a:chOff x="5095080" y="5653080"/>
                <a:chExt cx="325440" cy="44424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5181480" y="5653080"/>
                  <a:ext cx="10764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095080" y="5729040"/>
                  <a:ext cx="325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7" name=""/>
            <p:cNvSpPr/>
            <p:nvPr/>
          </p:nvSpPr>
          <p:spPr>
            <a:xfrm>
              <a:off x="2286000" y="1143000"/>
              <a:ext cx="6858000" cy="685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209680" y="1143000"/>
            <a:ext cx="6934320" cy="5640480"/>
            <a:chOff x="2209680" y="1143000"/>
            <a:chExt cx="6934320" cy="5640480"/>
          </a:xfrm>
        </p:grpSpPr>
        <p:grpSp>
          <p:nvGrpSpPr>
            <p:cNvPr id="759" name=""/>
            <p:cNvGrpSpPr/>
            <p:nvPr/>
          </p:nvGrpSpPr>
          <p:grpSpPr>
            <a:xfrm>
              <a:off x="2209680" y="2139480"/>
              <a:ext cx="6775920" cy="4644000"/>
              <a:chOff x="2209680" y="2139480"/>
              <a:chExt cx="6775920" cy="4644000"/>
            </a:xfrm>
          </p:grpSpPr>
          <p:sp>
            <p:nvSpPr>
              <p:cNvPr id="760" name=""/>
              <p:cNvSpPr/>
              <p:nvPr/>
            </p:nvSpPr>
            <p:spPr>
              <a:xfrm>
                <a:off x="2286000" y="2209680"/>
                <a:ext cx="6629400" cy="4496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453080" y="641520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imensión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6200000">
                <a:off x="1627560" y="272160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imensión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590920" y="2362320"/>
                <a:ext cx="6095880" cy="4038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5623920" y="3290760"/>
                <a:ext cx="326880" cy="444600"/>
                <a:chOff x="5623920" y="3290760"/>
                <a:chExt cx="326880" cy="44460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5715000" y="329076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623920" y="336708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5246640" y="3367080"/>
                <a:ext cx="330120" cy="444600"/>
                <a:chOff x="5246640" y="3367080"/>
                <a:chExt cx="330120" cy="4446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5334120" y="336708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246640" y="3443400"/>
                  <a:ext cx="33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3215160" y="3962520"/>
                <a:ext cx="299520" cy="444240"/>
                <a:chOff x="3215160" y="3962520"/>
                <a:chExt cx="299520" cy="44424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3300480" y="396252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215160" y="4038480"/>
                  <a:ext cx="299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5638680" y="236232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590920" y="4381560"/>
                <a:ext cx="60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"/>
              <p:cNvGrpSpPr/>
              <p:nvPr/>
            </p:nvGrpSpPr>
            <p:grpSpPr>
              <a:xfrm>
                <a:off x="7065720" y="4510080"/>
                <a:ext cx="348480" cy="444600"/>
                <a:chOff x="7065720" y="4510080"/>
                <a:chExt cx="348480" cy="4446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7159680" y="451008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065720" y="4586400"/>
                  <a:ext cx="34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229880" y="4343400"/>
                <a:ext cx="307080" cy="444600"/>
                <a:chOff x="7229880" y="4343400"/>
                <a:chExt cx="307080" cy="4446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7315200" y="434340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229880" y="44197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5019120" y="5791320"/>
                <a:ext cx="325440" cy="444240"/>
                <a:chOff x="5019120" y="5791320"/>
                <a:chExt cx="325440" cy="44424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105520" y="5791320"/>
                  <a:ext cx="108000" cy="1080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019120" y="5867280"/>
                  <a:ext cx="325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Franklin Gothic Medium Cond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4" name=""/>
            <p:cNvSpPr/>
            <p:nvPr/>
          </p:nvSpPr>
          <p:spPr>
            <a:xfrm>
              <a:off x="2286000" y="1143000"/>
              <a:ext cx="6858000" cy="685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ranklin Gothic Medium Cond"/>
                </a:rPr>
                <a:t>Configuración f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786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40720" y="223920"/>
            <a:ext cx="87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Proceso de elaboración de mapas perceptuales: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determinación de un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286000" y="1981080"/>
            <a:ext cx="6858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Nivel de ajuste a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(Stress, S-Stress, RSQ y Coeficiente de Alien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86000" y="3429000"/>
            <a:ext cx="6858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Interpre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(capacidad de recoger todos los atributos releva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286000" y="4876920"/>
            <a:ext cx="6858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Replic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(consistencia entre submuest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7924680" y="1981080"/>
            <a:ext cx="1143000" cy="4190760"/>
            <a:chOff x="7924680" y="1981080"/>
            <a:chExt cx="1143000" cy="4190760"/>
          </a:xfrm>
        </p:grpSpPr>
        <p:sp>
          <p:nvSpPr>
            <p:cNvPr id="800" name=""/>
            <p:cNvSpPr/>
            <p:nvPr/>
          </p:nvSpPr>
          <p:spPr>
            <a:xfrm>
              <a:off x="7924680" y="1981080"/>
              <a:ext cx="1143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200" spc="-1" strike="noStrike">
                  <a:solidFill>
                    <a:srgbClr val="ff9900"/>
                  </a:solidFill>
                  <a:latin typeface="Franklin Gothic Medium Cond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924680" y="3428640"/>
              <a:ext cx="11430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200" spc="-1" strike="noStrike">
                  <a:solidFill>
                    <a:srgbClr val="ff9900"/>
                  </a:solidFill>
                  <a:latin typeface="Franklin Gothic Medium Cond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24680" y="4876560"/>
              <a:ext cx="1143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200" spc="-1" strike="noStrike">
                  <a:solidFill>
                    <a:srgbClr val="ff9900"/>
                  </a:solidFill>
                  <a:latin typeface="Franklin Gothic Medium Cond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Selección de una solución final: Crite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805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19720" y="1752480"/>
            <a:ext cx="4724280" cy="3124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Modelos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escalamiento multidimensional: Ejemp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53000" y="22392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vestigación de Mercados 2. Tema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817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0" y="4191120"/>
            <a:ext cx="1600200" cy="839880"/>
            <a:chOff x="0" y="4191120"/>
            <a:chExt cx="1600200" cy="839880"/>
          </a:xfrm>
        </p:grpSpPr>
        <p:sp>
          <p:nvSpPr>
            <p:cNvPr id="824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987480" y="22392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odelos de Escalamiento Multidimen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86000" y="1981080"/>
            <a:ext cx="6858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scalamiento Multidimensional Clásico (EMD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(modelo euclidiano no ponder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86000" y="3429000"/>
            <a:ext cx="6858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scalamiento Multidimensional Replicado (EMD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(modelo euclidiano no ponder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86000" y="4876920"/>
            <a:ext cx="6858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scalamiento Multidimensional Ponderado (EM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(modelo euclidiano ponderado) - INDS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7924680" y="1981080"/>
            <a:ext cx="1143000" cy="4190760"/>
            <a:chOff x="7924680" y="1981080"/>
            <a:chExt cx="1143000" cy="4190760"/>
          </a:xfrm>
        </p:grpSpPr>
        <p:sp>
          <p:nvSpPr>
            <p:cNvPr id="834" name=""/>
            <p:cNvSpPr/>
            <p:nvPr/>
          </p:nvSpPr>
          <p:spPr>
            <a:xfrm>
              <a:off x="7924680" y="1981080"/>
              <a:ext cx="1143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200" spc="-1" strike="noStrike">
                  <a:solidFill>
                    <a:srgbClr val="ff9900"/>
                  </a:solidFill>
                  <a:latin typeface="Franklin Gothic Medium Cond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24680" y="3428640"/>
              <a:ext cx="11430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200" spc="-1" strike="noStrike">
                  <a:solidFill>
                    <a:srgbClr val="ff9900"/>
                  </a:solidFill>
                  <a:latin typeface="Franklin Gothic Medium Cond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4876560"/>
              <a:ext cx="1143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200" spc="-1" strike="noStrike">
                  <a:solidFill>
                    <a:srgbClr val="ff9900"/>
                  </a:solidFill>
                  <a:latin typeface="Franklin Gothic Medium Cond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s básicos de escalamiento mult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839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28960" y="22392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Métodos de inter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12952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fac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096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1240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nálisis de correspond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4038480"/>
            <a:ext cx="723888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scalamiento mult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62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973800" y="22392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clásic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86000" y="1981080"/>
            <a:ext cx="6858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Forma más sencilla de Escalamiento Mult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86000" y="2819520"/>
            <a:ext cx="6858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Parte de una sola matriz de disimil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86000" y="3657600"/>
            <a:ext cx="6858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Basado en el modelo euclidiano no pon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Emplea las distancias euclidianas para modelizar/representar las disimil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854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2286000" y="4952880"/>
            <a:ext cx="6858000" cy="1524240"/>
            <a:chOff x="2286000" y="4952880"/>
            <a:chExt cx="6858000" cy="1524240"/>
          </a:xfrm>
        </p:grpSpPr>
        <p:sp>
          <p:nvSpPr>
            <p:cNvPr id="861" name=""/>
            <p:cNvSpPr/>
            <p:nvPr/>
          </p:nvSpPr>
          <p:spPr>
            <a:xfrm>
              <a:off x="2286000" y="4952880"/>
              <a:ext cx="6858000" cy="152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72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2" name="" descr=""/>
            <p:cNvPicPr/>
            <p:nvPr/>
          </p:nvPicPr>
          <p:blipFill>
            <a:blip r:embed="rId1"/>
            <a:stretch/>
          </p:blipFill>
          <p:spPr>
            <a:xfrm>
              <a:off x="4191120" y="5229360"/>
              <a:ext cx="2743200" cy="1019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61240" y="223920"/>
            <a:ext cx="88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clásic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C)</a:t>
            </a: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: Geometría del modelo euclid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868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2077920" y="1447920"/>
            <a:ext cx="6458760" cy="4952880"/>
            <a:chOff x="2077920" y="1447920"/>
            <a:chExt cx="6458760" cy="4952880"/>
          </a:xfrm>
        </p:grpSpPr>
        <p:sp>
          <p:nvSpPr>
            <p:cNvPr id="875" name=""/>
            <p:cNvSpPr/>
            <p:nvPr/>
          </p:nvSpPr>
          <p:spPr>
            <a:xfrm>
              <a:off x="3735360" y="1447920"/>
              <a:ext cx="1440" cy="495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077920" y="4794120"/>
              <a:ext cx="6318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36960" y="4726080"/>
              <a:ext cx="1440" cy="13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438800" y="2585880"/>
              <a:ext cx="2880" cy="2275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138640" y="4726080"/>
              <a:ext cx="1800" cy="13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38840" y="4726080"/>
              <a:ext cx="1440" cy="13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39040" y="4726080"/>
              <a:ext cx="1440" cy="13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48600" y="4057560"/>
              <a:ext cx="1440" cy="803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40520" y="4726080"/>
              <a:ext cx="1800" cy="13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333520" y="4726080"/>
              <a:ext cx="1800" cy="13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3672000" y="5527800"/>
              <a:ext cx="1267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72000" y="4057560"/>
              <a:ext cx="3576600" cy="1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675240" y="3322800"/>
              <a:ext cx="1267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3672000" y="2585520"/>
              <a:ext cx="766800" cy="1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3672000" y="1852200"/>
              <a:ext cx="12672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3675240" y="6265440"/>
              <a:ext cx="12672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17640" y="1447920"/>
              <a:ext cx="979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431800" y="1500120"/>
              <a:ext cx="99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Dimensión 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1480" y="4927680"/>
              <a:ext cx="9399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594200" y="4981680"/>
              <a:ext cx="94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Dimensión 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55920" y="2449440"/>
              <a:ext cx="335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29000" y="2505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506040" y="2597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355920" y="3925800"/>
              <a:ext cx="335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29000" y="3976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06040" y="4068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95880" y="4861080"/>
              <a:ext cx="338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371120" y="4915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448880" y="50054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118280" y="4861080"/>
              <a:ext cx="338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195320" y="4915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69840" y="50054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316400" y="2182680"/>
              <a:ext cx="3175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94520" y="2233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487400" y="2330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062840" y="3656160"/>
              <a:ext cx="3128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37000" y="3705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240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164040" y="2585880"/>
              <a:ext cx="128520" cy="1538280"/>
            </a:xfrm>
            <a:custGeom>
              <a:avLst/>
              <a:gdLst/>
              <a:ahLst/>
              <a:rect l="l" t="t" r="r" b="b"/>
              <a:pathLst>
                <a:path w="109" h="1247">
                  <a:moveTo>
                    <a:pt x="109" y="0"/>
                  </a:moveTo>
                  <a:lnTo>
                    <a:pt x="97" y="2"/>
                  </a:lnTo>
                  <a:lnTo>
                    <a:pt x="87" y="8"/>
                  </a:lnTo>
                  <a:lnTo>
                    <a:pt x="78" y="18"/>
                  </a:lnTo>
                  <a:lnTo>
                    <a:pt x="70" y="31"/>
                  </a:lnTo>
                  <a:lnTo>
                    <a:pt x="64" y="47"/>
                  </a:lnTo>
                  <a:lnTo>
                    <a:pt x="59" y="63"/>
                  </a:lnTo>
                  <a:lnTo>
                    <a:pt x="56" y="83"/>
                  </a:lnTo>
                  <a:lnTo>
                    <a:pt x="55" y="104"/>
                  </a:lnTo>
                  <a:lnTo>
                    <a:pt x="55" y="520"/>
                  </a:lnTo>
                  <a:lnTo>
                    <a:pt x="53" y="541"/>
                  </a:lnTo>
                  <a:lnTo>
                    <a:pt x="50" y="560"/>
                  </a:lnTo>
                  <a:lnTo>
                    <a:pt x="46" y="578"/>
                  </a:lnTo>
                  <a:lnTo>
                    <a:pt x="39" y="593"/>
                  </a:lnTo>
                  <a:lnTo>
                    <a:pt x="31" y="606"/>
                  </a:lnTo>
                  <a:lnTo>
                    <a:pt x="22" y="616"/>
                  </a:lnTo>
                  <a:lnTo>
                    <a:pt x="12" y="621"/>
                  </a:lnTo>
                  <a:lnTo>
                    <a:pt x="0" y="624"/>
                  </a:lnTo>
                  <a:lnTo>
                    <a:pt x="12" y="626"/>
                  </a:lnTo>
                  <a:lnTo>
                    <a:pt x="22" y="632"/>
                  </a:lnTo>
                  <a:lnTo>
                    <a:pt x="31" y="642"/>
                  </a:lnTo>
                  <a:lnTo>
                    <a:pt x="39" y="654"/>
                  </a:lnTo>
                  <a:lnTo>
                    <a:pt x="46" y="670"/>
                  </a:lnTo>
                  <a:lnTo>
                    <a:pt x="50" y="687"/>
                  </a:lnTo>
                  <a:lnTo>
                    <a:pt x="53" y="706"/>
                  </a:lnTo>
                  <a:lnTo>
                    <a:pt x="55" y="728"/>
                  </a:lnTo>
                  <a:lnTo>
                    <a:pt x="55" y="1143"/>
                  </a:lnTo>
                  <a:lnTo>
                    <a:pt x="56" y="1165"/>
                  </a:lnTo>
                  <a:lnTo>
                    <a:pt x="59" y="1184"/>
                  </a:lnTo>
                  <a:lnTo>
                    <a:pt x="64" y="1202"/>
                  </a:lnTo>
                  <a:lnTo>
                    <a:pt x="70" y="1217"/>
                  </a:lnTo>
                  <a:lnTo>
                    <a:pt x="78" y="1229"/>
                  </a:lnTo>
                  <a:lnTo>
                    <a:pt x="87" y="1239"/>
                  </a:lnTo>
                  <a:lnTo>
                    <a:pt x="97" y="1245"/>
                  </a:lnTo>
                  <a:lnTo>
                    <a:pt x="109" y="124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38800" y="5195880"/>
              <a:ext cx="2809800" cy="201600"/>
            </a:xfrm>
            <a:custGeom>
              <a:avLst/>
              <a:gdLst/>
              <a:ahLst/>
              <a:rect l="l" t="t" r="r" b="b"/>
              <a:pathLst>
                <a:path w="2378" h="163">
                  <a:moveTo>
                    <a:pt x="2378" y="0"/>
                  </a:moveTo>
                  <a:lnTo>
                    <a:pt x="2377" y="8"/>
                  </a:lnTo>
                  <a:lnTo>
                    <a:pt x="2374" y="17"/>
                  </a:lnTo>
                  <a:lnTo>
                    <a:pt x="2369" y="25"/>
                  </a:lnTo>
                  <a:lnTo>
                    <a:pt x="2362" y="32"/>
                  </a:lnTo>
                  <a:lnTo>
                    <a:pt x="2354" y="39"/>
                  </a:lnTo>
                  <a:lnTo>
                    <a:pt x="2344" y="46"/>
                  </a:lnTo>
                  <a:lnTo>
                    <a:pt x="2333" y="52"/>
                  </a:lnTo>
                  <a:lnTo>
                    <a:pt x="2320" y="58"/>
                  </a:lnTo>
                  <a:lnTo>
                    <a:pt x="2306" y="64"/>
                  </a:lnTo>
                  <a:lnTo>
                    <a:pt x="2290" y="68"/>
                  </a:lnTo>
                  <a:lnTo>
                    <a:pt x="2256" y="75"/>
                  </a:lnTo>
                  <a:lnTo>
                    <a:pt x="2219" y="81"/>
                  </a:lnTo>
                  <a:lnTo>
                    <a:pt x="2180" y="82"/>
                  </a:lnTo>
                  <a:lnTo>
                    <a:pt x="1387" y="82"/>
                  </a:lnTo>
                  <a:lnTo>
                    <a:pt x="1348" y="83"/>
                  </a:lnTo>
                  <a:lnTo>
                    <a:pt x="1310" y="88"/>
                  </a:lnTo>
                  <a:lnTo>
                    <a:pt x="1277" y="95"/>
                  </a:lnTo>
                  <a:lnTo>
                    <a:pt x="1261" y="100"/>
                  </a:lnTo>
                  <a:lnTo>
                    <a:pt x="1247" y="105"/>
                  </a:lnTo>
                  <a:lnTo>
                    <a:pt x="1234" y="111"/>
                  </a:lnTo>
                  <a:lnTo>
                    <a:pt x="1223" y="118"/>
                  </a:lnTo>
                  <a:lnTo>
                    <a:pt x="1212" y="125"/>
                  </a:lnTo>
                  <a:lnTo>
                    <a:pt x="1205" y="131"/>
                  </a:lnTo>
                  <a:lnTo>
                    <a:pt x="1198" y="139"/>
                  </a:lnTo>
                  <a:lnTo>
                    <a:pt x="1193" y="146"/>
                  </a:lnTo>
                  <a:lnTo>
                    <a:pt x="1190" y="155"/>
                  </a:lnTo>
                  <a:lnTo>
                    <a:pt x="1189" y="163"/>
                  </a:lnTo>
                  <a:lnTo>
                    <a:pt x="1188" y="155"/>
                  </a:lnTo>
                  <a:lnTo>
                    <a:pt x="1184" y="146"/>
                  </a:lnTo>
                  <a:lnTo>
                    <a:pt x="1180" y="139"/>
                  </a:lnTo>
                  <a:lnTo>
                    <a:pt x="1173" y="131"/>
                  </a:lnTo>
                  <a:lnTo>
                    <a:pt x="1165" y="125"/>
                  </a:lnTo>
                  <a:lnTo>
                    <a:pt x="1155" y="118"/>
                  </a:lnTo>
                  <a:lnTo>
                    <a:pt x="1144" y="111"/>
                  </a:lnTo>
                  <a:lnTo>
                    <a:pt x="1130" y="105"/>
                  </a:lnTo>
                  <a:lnTo>
                    <a:pt x="1117" y="100"/>
                  </a:lnTo>
                  <a:lnTo>
                    <a:pt x="1101" y="95"/>
                  </a:lnTo>
                  <a:lnTo>
                    <a:pt x="1067" y="88"/>
                  </a:lnTo>
                  <a:lnTo>
                    <a:pt x="1030" y="83"/>
                  </a:lnTo>
                  <a:lnTo>
                    <a:pt x="991" y="82"/>
                  </a:lnTo>
                  <a:lnTo>
                    <a:pt x="198" y="82"/>
                  </a:lnTo>
                  <a:lnTo>
                    <a:pt x="158" y="81"/>
                  </a:lnTo>
                  <a:lnTo>
                    <a:pt x="121" y="75"/>
                  </a:lnTo>
                  <a:lnTo>
                    <a:pt x="87" y="68"/>
                  </a:lnTo>
                  <a:lnTo>
                    <a:pt x="72" y="64"/>
                  </a:lnTo>
                  <a:lnTo>
                    <a:pt x="58" y="58"/>
                  </a:lnTo>
                  <a:lnTo>
                    <a:pt x="45" y="52"/>
                  </a:lnTo>
                  <a:lnTo>
                    <a:pt x="33" y="46"/>
                  </a:lnTo>
                  <a:lnTo>
                    <a:pt x="23" y="39"/>
                  </a:lnTo>
                  <a:lnTo>
                    <a:pt x="15" y="32"/>
                  </a:lnTo>
                  <a:lnTo>
                    <a:pt x="9" y="25"/>
                  </a:lnTo>
                  <a:lnTo>
                    <a:pt x="4" y="17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87680" y="2514600"/>
              <a:ext cx="108000" cy="108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207200" y="4006800"/>
              <a:ext cx="108000" cy="108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7" name=""/>
            <p:cNvCxnSpPr>
              <a:stCxn id="915" idx="6"/>
              <a:endCxn id="916" idx="1"/>
            </p:cNvCxnSpPr>
            <p:nvPr/>
          </p:nvCxnSpPr>
          <p:spPr>
            <a:xfrm>
              <a:off x="4495680" y="2568240"/>
              <a:ext cx="2728080" cy="145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562720" y="1143000"/>
                <a:ext cx="27432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a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61240" y="223920"/>
            <a:ext cx="88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clásic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C)</a:t>
            </a: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: Geometría del modelo euclid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923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2286000" y="3048120"/>
            <a:ext cx="6858000" cy="38098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 marL="384120" indent="-19836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562720" y="1143000"/>
                <a:ext cx="27432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a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31" name=""/>
          <p:cNvGrpSpPr/>
          <p:nvPr/>
        </p:nvGrpSpPr>
        <p:grpSpPr>
          <a:xfrm>
            <a:off x="1828800" y="838080"/>
            <a:ext cx="7315200" cy="1600200"/>
            <a:chOff x="1828800" y="838080"/>
            <a:chExt cx="7315200" cy="1600200"/>
          </a:xfrm>
        </p:grpSpPr>
        <p:sp>
          <p:nvSpPr>
            <p:cNvPr id="932" name=""/>
            <p:cNvSpPr/>
            <p:nvPr/>
          </p:nvSpPr>
          <p:spPr>
            <a:xfrm>
              <a:off x="1828800" y="838080"/>
              <a:ext cx="73152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3" name=""/>
                <p:cNvSpPr txBox="1"/>
                <p:nvPr/>
              </p:nvSpPr>
              <p:spPr>
                <a:xfrm>
                  <a:off x="2286000" y="1143000"/>
                  <a:ext cx="274320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a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ja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</m:d>
                        </m:e>
                        <m:sup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4" name=""/>
          <p:cNvSpPr/>
          <p:nvPr/>
        </p:nvSpPr>
        <p:spPr>
          <a:xfrm>
            <a:off x="2514600" y="3429000"/>
            <a:ext cx="609588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2126"/>
              </a:spcBef>
              <a:spcAft>
                <a:spcPts val="21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Reflejar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,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permutar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 y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rotar 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las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2126"/>
              </a:spcBef>
              <a:spcAft>
                <a:spcPts val="21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Realizar un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cambio de origen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 del espacio de r dimensiones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(cambio de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2126"/>
              </a:spcBef>
              <a:spcAft>
                <a:spcPts val="21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Cambiar la escala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, multiplicando las coordenadas de todos los puntos respecto a todas las dimensiones por una misma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286000" y="2362320"/>
            <a:ext cx="6858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sta definición de las distancias perm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0" y="2362320"/>
            <a:ext cx="6858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Normalización: 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MDC genera unas dimensiones tale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286000" y="3048120"/>
            <a:ext cx="6858000" cy="38098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Franklin Gothic Medium Cond"/>
              </a:rPr>
              <a:t>Tanto el origen (la media) como la unidad de medida (la escala) son arbitr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048120"/>
            <a:ext cx="68580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90920" y="32004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Franklin Gothic Medium Cond"/>
              </a:rPr>
              <a:t>La media de cada dimensión es igual a 0 (las coordenadas son centra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590920" y="4876920"/>
            <a:ext cx="41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Franklin Gothic Medium Cond"/>
              </a:rPr>
              <a:t>La longitud media de las dimensiones es igual al número de estím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124080" y="3936960"/>
                <a:ext cx="1201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154320" y="5689440"/>
                <a:ext cx="2036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ngitud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5948280" y="5689440"/>
                <a:ext cx="1671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r·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4" name="">
            <a:hlinkClick r:id="rId1"/>
          </p:cNvPr>
          <p:cNvSpPr/>
          <p:nvPr/>
        </p:nvSpPr>
        <p:spPr>
          <a:xfrm>
            <a:off x="8381880" y="6172200"/>
            <a:ext cx="609840" cy="5335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9900"/>
                </a:solidFill>
                <a:latin typeface="Webdings"/>
                <a:ea typeface="Webdings"/>
              </a:rPr>
              <a:t>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74080" y="223920"/>
            <a:ext cx="60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clásic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C)</a:t>
            </a: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Mé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86000" y="1981080"/>
            <a:ext cx="6858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sume que los datos de la matriz de disimilitudes están expresados en una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scala 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86000" y="3048120"/>
            <a:ext cx="685800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Ajusta 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(ajuste mínimo cuadrático)</a:t>
            </a: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 las distancias euclídeas al cuadrado 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(la matriz D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Franklin Gothic Medium Cond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, compuesta por los elementos 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ij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) </a:t>
            </a: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a las disimilitudes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(la matriz S, compuesta por los elementos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ij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), hasta minimizar el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286000" y="4800600"/>
            <a:ext cx="6858000" cy="190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icho ajuste puede representarse mediante la ec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 Cond"/>
              </a:rPr>
              <a:t>l{S} = T = D</a:t>
            </a:r>
            <a:r>
              <a:rPr b="0" lang="en-US" sz="2400" spc="-1" strike="noStrike" baseline="30000">
                <a:solidFill>
                  <a:srgbClr val="ff9900"/>
                </a:solidFill>
                <a:latin typeface="Franklin Gothic Medium Cond"/>
              </a:rPr>
              <a:t>2 </a:t>
            </a:r>
            <a:r>
              <a:rPr b="0" lang="en-US" sz="2400" spc="-1" strike="noStrike">
                <a:solidFill>
                  <a:srgbClr val="ff9900"/>
                </a:solidFill>
                <a:latin typeface="Franklin Gothic Medium Cond"/>
              </a:rPr>
              <a:t>+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onde l{S} es la transformación lineal de S que da lugar al mejor ajuste mínimo cuadrático entre S y 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Franklin Gothic Medium Con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954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4038480" y="1219320"/>
            <a:ext cx="4572000" cy="3657600"/>
          </a:xfrm>
          <a:prstGeom prst="cloudCallout">
            <a:avLst>
              <a:gd name="adj1" fmla="val -18712"/>
              <a:gd name="adj2" fmla="val 75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d4d4d"/>
                </a:solidFill>
                <a:latin typeface="Franklin Gothic Medium Cond"/>
              </a:rPr>
              <a:t>SPSS minimiza el S-St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74080" y="223920"/>
            <a:ext cx="60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clásic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C)</a:t>
            </a: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Mé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omparación de la definición de S-Stress y de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967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286000" y="1981080"/>
            <a:ext cx="6858000" cy="2057400"/>
            <a:chOff x="2286000" y="1981080"/>
            <a:chExt cx="6858000" cy="2057400"/>
          </a:xfrm>
        </p:grpSpPr>
        <p:sp>
          <p:nvSpPr>
            <p:cNvPr id="974" name=""/>
            <p:cNvSpPr/>
            <p:nvPr/>
          </p:nvSpPr>
          <p:spPr>
            <a:xfrm>
              <a:off x="2286000" y="1981080"/>
              <a:ext cx="685800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72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5" name=""/>
                <p:cNvSpPr txBox="1"/>
                <p:nvPr/>
              </p:nvSpPr>
              <p:spPr>
                <a:xfrm>
                  <a:off x="3925800" y="2174760"/>
                  <a:ext cx="3578400" cy="167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Stres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i</m:t>
                                  </m:r>
                                </m:sub>
                                <m:sup/>
                                <m:e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/>
                                    <m:e>
                                      <m:sSup>
                                        <m:e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sSubSup>
                                                <m:e>
                                                  <m:r>
                                                    <m:t xml:space="preserve">d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rPr>
                                                      <m:lit/>
                                                      <m:nor/>
                                                    </m:rPr>
                                                    <m:t xml:space="preserve">ij</m:t>
                                                  </m:r>
                                                </m:sub>
                                                <m:sup>
                                                  <m:r>
                                                    <m:t xml:space="preserve">2</m:t>
                                                  </m:r>
                                                </m:sup>
                                              </m:sSubSup>
                                              <m:r>
                                                <m:t xml:space="preserve">−</m:t>
                                              </m:r>
                                              <m:sSubSup>
                                                <m:e>
                                                  <m:acc>
                                                    <m:accPr>
                                                      <m:chr m:val="^"/>
                                                    </m:accPr>
                                                    <m:e>
                                                      <m:r>
                                                        <m:t xml:space="preserve">d</m:t>
                                                      </m:r>
                                                    </m:e>
                                                  </m:acc>
                                                </m:e>
                                                <m:sub>
                                                  <m:r>
                                                    <m:rPr>
                                                      <m:lit/>
                                                      <m:nor/>
                                                    </m:rPr>
                                                    <m:t xml:space="preserve">ij</m:t>
                                                  </m:r>
                                                </m:sub>
                                                <m:sup>
                                                  <m:r>
                                                    <m:t xml:space="preserve">2</m:t>
                                                  </m:r>
                                                </m:sup>
                                              </m:sSubSup>
                                            </m:e>
                                          </m:d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nary>
                                </m:e>
                              </m:nary>
                            </m:num>
                            <m:den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i</m:t>
                                  </m:r>
                                </m:sub>
                                <m:sup/>
                                <m:e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/>
                                    <m:e>
                                      <m:sSup>
                                        <m:e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sSubSup>
                                                <m:e>
                                                  <m:r>
                                                    <m:t xml:space="preserve">d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rPr>
                                                      <m:lit/>
                                                      <m:nor/>
                                                    </m:rPr>
                                                    <m:t xml:space="preserve">ij</m:t>
                                                  </m:r>
                                                </m:sub>
                                                <m:sup>
                                                  <m:r>
                                                    <m:t xml:space="preserve">2</m:t>
                                                  </m:r>
                                                </m:sup>
                                              </m:sSubSup>
                                            </m:e>
                                          </m:d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nary>
                                </m:e>
                              </m:nary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6" name=""/>
          <p:cNvGrpSpPr/>
          <p:nvPr/>
        </p:nvGrpSpPr>
        <p:grpSpPr>
          <a:xfrm>
            <a:off x="2286000" y="4191120"/>
            <a:ext cx="6858000" cy="2057400"/>
            <a:chOff x="2286000" y="4191120"/>
            <a:chExt cx="6858000" cy="2057400"/>
          </a:xfrm>
        </p:grpSpPr>
        <p:sp>
          <p:nvSpPr>
            <p:cNvPr id="977" name=""/>
            <p:cNvSpPr/>
            <p:nvPr/>
          </p:nvSpPr>
          <p:spPr>
            <a:xfrm>
              <a:off x="2286000" y="4191120"/>
              <a:ext cx="685800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72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8" name=""/>
                <p:cNvSpPr txBox="1"/>
                <p:nvPr/>
              </p:nvSpPr>
              <p:spPr>
                <a:xfrm>
                  <a:off x="4160880" y="4410000"/>
                  <a:ext cx="310824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tres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i</m:t>
                                  </m:r>
                                </m:sub>
                                <m:sup/>
                                <m:e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/>
                                    <m:e>
                                      <m:sSup>
                                        <m:e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sSub>
                                                <m:e>
                                                  <m:r>
                                                    <m:t xml:space="preserve">d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rPr>
                                                      <m:lit/>
                                                      <m:nor/>
                                                    </m:rPr>
                                                    <m:t xml:space="preserve">ij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−</m:t>
                                              </m:r>
                                              <m:sSub>
                                                <m:e>
                                                  <m:acc>
                                                    <m:accPr>
                                                      <m:chr m:val="^"/>
                                                    </m:accPr>
                                                    <m:e>
                                                      <m:r>
                                                        <m:t xml:space="preserve">d</m:t>
                                                      </m:r>
                                                    </m:e>
                                                  </m:acc>
                                                </m:e>
                                                <m:sub>
                                                  <m:r>
                                                    <m:rPr>
                                                      <m:lit/>
                                                      <m:nor/>
                                                    </m:rPr>
                                                    <m:t xml:space="preserve">ij</m:t>
                                                  </m:r>
                                                </m:sub>
                                              </m:sSub>
                                            </m:e>
                                          </m:d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nary>
                                </m:e>
                              </m:nary>
                            </m:num>
                            <m:den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i</m:t>
                                  </m:r>
                                </m:sub>
                                <m:sup/>
                                <m:e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/>
                                    <m:e>
                                      <m:sSubSup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e>
                                  </m:nary>
                                </m:e>
                              </m:nary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26200" y="223920"/>
            <a:ext cx="64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clásic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C)</a:t>
            </a: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No</a:t>
            </a: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Mé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286000" y="1981080"/>
            <a:ext cx="6858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sume que los datos de la matriz de disimilitudes están expresados en una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scala no métrica (ord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3048120"/>
            <a:ext cx="685800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Ajusta 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(ajuste mínimo cuadrático)</a:t>
            </a: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 las distancias euclídeas al cuadrado 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(la matriz D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Franklin Gothic Medium Cond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, compuesta por los elementos 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ij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) </a:t>
            </a: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a las disimilitudes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(la matriz S, compuesta por los elementos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ij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), hasta minimizar el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987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2286000" y="4800600"/>
            <a:ext cx="6858000" cy="190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icho ajuste puede representarse mediante la ec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 Cond"/>
              </a:rPr>
              <a:t>m{S} = T = D</a:t>
            </a:r>
            <a:r>
              <a:rPr b="0" lang="en-US" sz="2400" spc="-1" strike="noStrike" baseline="30000">
                <a:solidFill>
                  <a:srgbClr val="ff9900"/>
                </a:solidFill>
                <a:latin typeface="Franklin Gothic Medium Cond"/>
              </a:rPr>
              <a:t>2 </a:t>
            </a:r>
            <a:r>
              <a:rPr b="0" lang="en-US" sz="2400" spc="-1" strike="noStrike">
                <a:solidFill>
                  <a:srgbClr val="ff9900"/>
                </a:solidFill>
                <a:latin typeface="Franklin Gothic Medium Cond"/>
              </a:rPr>
              <a:t>+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onde m{S} es la transformación monotónica de S que da lugar al mejor ajuste mínimo cuadrático entre S y 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Franklin Gothic Medium Con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47440" y="22392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clásic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C)</a:t>
            </a: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999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2286000" y="1600200"/>
            <a:ext cx="914400" cy="914400"/>
            <a:chOff x="2286000" y="1600200"/>
            <a:chExt cx="914400" cy="914400"/>
          </a:xfrm>
        </p:grpSpPr>
        <p:sp>
          <p:nvSpPr>
            <p:cNvPr id="1006" name=""/>
            <p:cNvSpPr/>
            <p:nvPr/>
          </p:nvSpPr>
          <p:spPr>
            <a:xfrm>
              <a:off x="2286000" y="1600200"/>
              <a:ext cx="91440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7" name=""/>
                <p:cNvSpPr txBox="1"/>
                <p:nvPr/>
              </p:nvSpPr>
              <p:spPr>
                <a:xfrm>
                  <a:off x="2471760" y="1752480"/>
                  <a:ext cx="54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8" name=""/>
          <p:cNvGrpSpPr/>
          <p:nvPr/>
        </p:nvGrpSpPr>
        <p:grpSpPr>
          <a:xfrm>
            <a:off x="7696080" y="1600200"/>
            <a:ext cx="914400" cy="914400"/>
            <a:chOff x="7696080" y="1600200"/>
            <a:chExt cx="914400" cy="914400"/>
          </a:xfrm>
        </p:grpSpPr>
        <p:sp>
          <p:nvSpPr>
            <p:cNvPr id="1009" name=""/>
            <p:cNvSpPr/>
            <p:nvPr/>
          </p:nvSpPr>
          <p:spPr>
            <a:xfrm>
              <a:off x="7696080" y="1600200"/>
              <a:ext cx="91440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0" name=""/>
                <p:cNvSpPr txBox="1"/>
                <p:nvPr/>
              </p:nvSpPr>
              <p:spPr>
                <a:xfrm>
                  <a:off x="7932600" y="1735200"/>
                  <a:ext cx="43992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1" name=""/>
          <p:cNvSpPr/>
          <p:nvPr/>
        </p:nvSpPr>
        <p:spPr>
          <a:xfrm>
            <a:off x="3200400" y="5257800"/>
            <a:ext cx="1523880" cy="9144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Franklin Gothic Medium Cond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172200" y="5257800"/>
            <a:ext cx="1523880" cy="9144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ranklin Gothic Medium Cond"/>
              </a:rPr>
              <a:t>T=l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ranklin Gothic Medium Cond"/>
              </a:rPr>
              <a:t>T=m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286000" y="5257800"/>
            <a:ext cx="914400" cy="914400"/>
            <a:chOff x="2286000" y="5257800"/>
            <a:chExt cx="914400" cy="914400"/>
          </a:xfrm>
        </p:grpSpPr>
        <p:sp>
          <p:nvSpPr>
            <p:cNvPr id="1014" name=""/>
            <p:cNvSpPr/>
            <p:nvPr/>
          </p:nvSpPr>
          <p:spPr>
            <a:xfrm>
              <a:off x="2286000" y="5257800"/>
              <a:ext cx="91440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5" name=""/>
                <p:cNvSpPr txBox="1"/>
                <p:nvPr/>
              </p:nvSpPr>
              <p:spPr>
                <a:xfrm>
                  <a:off x="2522520" y="5394240"/>
                  <a:ext cx="43992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6" name=""/>
          <p:cNvSpPr/>
          <p:nvPr/>
        </p:nvSpPr>
        <p:spPr>
          <a:xfrm>
            <a:off x="6172200" y="1600200"/>
            <a:ext cx="1523880" cy="9144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Franklin Gothic Medium Cond"/>
              </a:rPr>
              <a:t>D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Franklin Gothic Medium Cond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200400" y="1600200"/>
            <a:ext cx="1523880" cy="9144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Franklin Gothic Medium Cond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7696080" y="5257800"/>
            <a:ext cx="914400" cy="914400"/>
            <a:chOff x="7696080" y="5257800"/>
            <a:chExt cx="914400" cy="914400"/>
          </a:xfrm>
        </p:grpSpPr>
        <p:sp>
          <p:nvSpPr>
            <p:cNvPr id="1019" name=""/>
            <p:cNvSpPr/>
            <p:nvPr/>
          </p:nvSpPr>
          <p:spPr>
            <a:xfrm>
              <a:off x="7696080" y="5257800"/>
              <a:ext cx="91440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0" name=""/>
                <p:cNvSpPr txBox="1"/>
                <p:nvPr/>
              </p:nvSpPr>
              <p:spPr>
                <a:xfrm>
                  <a:off x="7924680" y="5376960"/>
                  <a:ext cx="43992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1" name=""/>
          <p:cNvSpPr/>
          <p:nvPr/>
        </p:nvSpPr>
        <p:spPr>
          <a:xfrm>
            <a:off x="4724280" y="2057400"/>
            <a:ext cx="144792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724280" y="5713560"/>
            <a:ext cx="144792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2743200" y="2514600"/>
            <a:ext cx="4191120" cy="2743200"/>
            <a:chOff x="2743200" y="2514600"/>
            <a:chExt cx="4191120" cy="2743200"/>
          </a:xfrm>
        </p:grpSpPr>
        <p:sp>
          <p:nvSpPr>
            <p:cNvPr id="1024" name=""/>
            <p:cNvSpPr/>
            <p:nvPr/>
          </p:nvSpPr>
          <p:spPr>
            <a:xfrm>
              <a:off x="2743200" y="2514600"/>
              <a:ext cx="4191120" cy="914400"/>
            </a:xfrm>
            <a:custGeom>
              <a:avLst/>
              <a:gdLst/>
              <a:ahLst/>
              <a:rect l="l" t="t" r="r" b="b"/>
              <a:pathLst>
                <a:path w="2640" h="576">
                  <a:moveTo>
                    <a:pt x="2640" y="0"/>
                  </a:moveTo>
                  <a:lnTo>
                    <a:pt x="2640" y="288"/>
                  </a:lnTo>
                  <a:lnTo>
                    <a:pt x="0" y="288"/>
                  </a:lnTo>
                  <a:lnTo>
                    <a:pt x="0" y="5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2743200" y="4343400"/>
              <a:ext cx="4191120" cy="914400"/>
            </a:xfrm>
            <a:custGeom>
              <a:avLst/>
              <a:gdLst/>
              <a:ahLst/>
              <a:rect l="l" t="t" r="r" b="b"/>
              <a:pathLst>
                <a:path w="2640" h="576">
                  <a:moveTo>
                    <a:pt x="2640" y="0"/>
                  </a:moveTo>
                  <a:lnTo>
                    <a:pt x="2640" y="288"/>
                  </a:lnTo>
                  <a:lnTo>
                    <a:pt x="0" y="288"/>
                  </a:lnTo>
                  <a:lnTo>
                    <a:pt x="0" y="5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2286000" y="3429000"/>
            <a:ext cx="1752480" cy="9144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Franklin Gothic Medium Cond"/>
              </a:rPr>
              <a:t>T=D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Franklin Gothic Medium Cond"/>
              </a:rPr>
              <a:t>2</a:t>
            </a:r>
            <a:r>
              <a:rPr b="0" lang="es-ES_tradnl" sz="3600" spc="-1" strike="noStrike">
                <a:solidFill>
                  <a:srgbClr val="000000"/>
                </a:solidFill>
                <a:latin typeface="Franklin Gothic Medium Cond"/>
              </a:rPr>
              <a:t>+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4038480" y="3429000"/>
            <a:ext cx="1600200" cy="914400"/>
            <a:chOff x="4038480" y="3429000"/>
            <a:chExt cx="1600200" cy="914400"/>
          </a:xfrm>
        </p:grpSpPr>
        <p:sp>
          <p:nvSpPr>
            <p:cNvPr id="1028" name=""/>
            <p:cNvSpPr/>
            <p:nvPr/>
          </p:nvSpPr>
          <p:spPr>
            <a:xfrm>
              <a:off x="4267080" y="3429000"/>
              <a:ext cx="137160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l(S); m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4038480" y="388476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5638680" y="3429000"/>
            <a:ext cx="1371600" cy="914400"/>
            <a:chOff x="5638680" y="3429000"/>
            <a:chExt cx="1371600" cy="914400"/>
          </a:xfrm>
        </p:grpSpPr>
        <p:sp>
          <p:nvSpPr>
            <p:cNvPr id="1031" name=""/>
            <p:cNvSpPr/>
            <p:nvPr/>
          </p:nvSpPr>
          <p:spPr>
            <a:xfrm>
              <a:off x="5867280" y="3429000"/>
              <a:ext cx="114300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míni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38680" y="388476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7010280" y="3429000"/>
            <a:ext cx="1600200" cy="914400"/>
            <a:chOff x="7010280" y="3429000"/>
            <a:chExt cx="1600200" cy="914400"/>
          </a:xfrm>
        </p:grpSpPr>
        <p:sp>
          <p:nvSpPr>
            <p:cNvPr id="1034" name=""/>
            <p:cNvSpPr/>
            <p:nvPr/>
          </p:nvSpPr>
          <p:spPr>
            <a:xfrm>
              <a:off x="7238880" y="3429000"/>
              <a:ext cx="137160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S-St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Franklin Gothic Medium Cond"/>
                </a:rPr>
                <a:t>míni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010280" y="388476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>
            <a:hlinkClick r:id="rId1"/>
          </p:cNvPr>
          <p:cNvSpPr/>
          <p:nvPr/>
        </p:nvSpPr>
        <p:spPr>
          <a:xfrm>
            <a:off x="8458200" y="152280"/>
            <a:ext cx="609480" cy="457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9900"/>
                </a:solidFill>
                <a:latin typeface="Webdings"/>
                <a:ea typeface="Webdings"/>
              </a:rPr>
              <a:t>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OUTPUT0" descr=""/>
          <p:cNvPicPr/>
          <p:nvPr/>
        </p:nvPicPr>
        <p:blipFill>
          <a:blip r:embed="rId1"/>
          <a:stretch/>
        </p:blipFill>
        <p:spPr>
          <a:xfrm>
            <a:off x="380880" y="74520"/>
            <a:ext cx="8458200" cy="676908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6564240" y="41760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C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1105200" y="3824280"/>
            <a:ext cx="5605200" cy="2563920"/>
            <a:chOff x="1105200" y="3824280"/>
            <a:chExt cx="5605200" cy="2563920"/>
          </a:xfrm>
        </p:grpSpPr>
        <p:sp>
          <p:nvSpPr>
            <p:cNvPr id="1040" name=""/>
            <p:cNvSpPr/>
            <p:nvPr/>
          </p:nvSpPr>
          <p:spPr>
            <a:xfrm>
              <a:off x="2670120" y="59436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pre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97720" y="6019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tama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05200" y="3824280"/>
              <a:ext cx="11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onsu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OUTPUT1" descr=""/>
          <p:cNvPicPr/>
          <p:nvPr/>
        </p:nvPicPr>
        <p:blipFill>
          <a:blip r:embed="rId1"/>
          <a:stretch/>
        </p:blipFill>
        <p:spPr>
          <a:xfrm>
            <a:off x="304920" y="12600"/>
            <a:ext cx="8534160" cy="683100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6564240" y="41760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C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516240" y="4815000"/>
            <a:ext cx="2556360" cy="1968480"/>
            <a:chOff x="516240" y="4815000"/>
            <a:chExt cx="2556360" cy="1968480"/>
          </a:xfrm>
        </p:grpSpPr>
        <p:sp>
          <p:nvSpPr>
            <p:cNvPr id="1046" name=""/>
            <p:cNvSpPr/>
            <p:nvPr/>
          </p:nvSpPr>
          <p:spPr>
            <a:xfrm>
              <a:off x="516240" y="4815000"/>
              <a:ext cx="42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239560" y="641520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T=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ℓ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 flipV="1">
            <a:off x="1143000" y="1025640"/>
            <a:ext cx="7359480" cy="492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OUTPUT2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6564240" y="41760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C métrico 2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01800" y="223920"/>
            <a:ext cx="56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: Esquema del 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12952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22096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Proceso de elaboración de mapas percep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1240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odelos de escalamiento mult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0384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jemplos prác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9528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squema de proce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86728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12952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Franklin Gothic Medium Cond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2096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Franklin Gothic Medium Cond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31240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Franklin Gothic Medium Cond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40384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Franklin Gothic Medium Cond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49528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Franklin Gothic Medium Cond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58672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Franklin Gothic Medium Cond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85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OUTPUT3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6564240" y="41760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C métrico 2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516240" y="4815000"/>
            <a:ext cx="2556360" cy="1968480"/>
            <a:chOff x="516240" y="4815000"/>
            <a:chExt cx="2556360" cy="1968480"/>
          </a:xfrm>
        </p:grpSpPr>
        <p:sp>
          <p:nvSpPr>
            <p:cNvPr id="1054" name=""/>
            <p:cNvSpPr/>
            <p:nvPr/>
          </p:nvSpPr>
          <p:spPr>
            <a:xfrm>
              <a:off x="516240" y="4815000"/>
              <a:ext cx="42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39560" y="641520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T=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ℓ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 flipV="1">
            <a:off x="1143000" y="1025640"/>
            <a:ext cx="7359480" cy="492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OUTPUT10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6520320" y="4176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C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OUTPUT11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6520320" y="4176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C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516240" y="4815000"/>
            <a:ext cx="2669400" cy="1968480"/>
            <a:chOff x="516240" y="4815000"/>
            <a:chExt cx="2669400" cy="1968480"/>
          </a:xfrm>
        </p:grpSpPr>
        <p:sp>
          <p:nvSpPr>
            <p:cNvPr id="1062" name=""/>
            <p:cNvSpPr/>
            <p:nvPr/>
          </p:nvSpPr>
          <p:spPr>
            <a:xfrm>
              <a:off x="516240" y="4815000"/>
              <a:ext cx="42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12200" y="6415200"/>
              <a:ext cx="9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T=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  <a:ea typeface="Arial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OUTPUT12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6520320" y="4176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C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516240" y="4815000"/>
            <a:ext cx="2076840" cy="1954080"/>
            <a:chOff x="516240" y="4815000"/>
            <a:chExt cx="2076840" cy="1954080"/>
          </a:xfrm>
        </p:grpSpPr>
        <p:sp>
          <p:nvSpPr>
            <p:cNvPr id="1067" name=""/>
            <p:cNvSpPr/>
            <p:nvPr/>
          </p:nvSpPr>
          <p:spPr>
            <a:xfrm>
              <a:off x="516240" y="4815000"/>
              <a:ext cx="42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87440" y="64008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OUTPUT13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/>
          <p:nvPr/>
        </p:nvSpPr>
        <p:spPr>
          <a:xfrm>
            <a:off x="6520320" y="4176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C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231120" y="3352680"/>
            <a:ext cx="2437920" cy="3402000"/>
            <a:chOff x="231120" y="3352680"/>
            <a:chExt cx="2437920" cy="3402000"/>
          </a:xfrm>
        </p:grpSpPr>
        <p:sp>
          <p:nvSpPr>
            <p:cNvPr id="1072" name=""/>
            <p:cNvSpPr/>
            <p:nvPr/>
          </p:nvSpPr>
          <p:spPr>
            <a:xfrm>
              <a:off x="2363400" y="63864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31120" y="3352680"/>
              <a:ext cx="9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T=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  <a:ea typeface="Arial"/>
                </a:rPr>
                <a:t>m(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576360" y="3825360"/>
            <a:ext cx="276480" cy="2117880"/>
            <a:chOff x="576360" y="3825360"/>
            <a:chExt cx="276480" cy="2117880"/>
          </a:xfrm>
        </p:grpSpPr>
        <p:sp>
          <p:nvSpPr>
            <p:cNvPr id="1075" name=""/>
            <p:cNvSpPr/>
            <p:nvPr/>
          </p:nvSpPr>
          <p:spPr>
            <a:xfrm flipV="1">
              <a:off x="701640" y="4876560"/>
              <a:ext cx="18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6200000">
              <a:off x="178200" y="4223160"/>
              <a:ext cx="107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ispar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OUTPUT14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6520320" y="4176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C no métrico 2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OUTPUT15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080" name=""/>
          <p:cNvSpPr/>
          <p:nvPr/>
        </p:nvSpPr>
        <p:spPr>
          <a:xfrm>
            <a:off x="6520320" y="4176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C no métrico 2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516240" y="4815000"/>
            <a:ext cx="2669400" cy="1968480"/>
            <a:chOff x="516240" y="4815000"/>
            <a:chExt cx="2669400" cy="1968480"/>
          </a:xfrm>
        </p:grpSpPr>
        <p:sp>
          <p:nvSpPr>
            <p:cNvPr id="1082" name=""/>
            <p:cNvSpPr/>
            <p:nvPr/>
          </p:nvSpPr>
          <p:spPr>
            <a:xfrm>
              <a:off x="516240" y="4815000"/>
              <a:ext cx="42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12200" y="6415200"/>
              <a:ext cx="9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T=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  <a:ea typeface="Arial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OUTPUT16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085" name=""/>
          <p:cNvSpPr/>
          <p:nvPr/>
        </p:nvSpPr>
        <p:spPr>
          <a:xfrm>
            <a:off x="6520320" y="4176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C no métrico 2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516240" y="4815000"/>
            <a:ext cx="2076840" cy="1954080"/>
            <a:chOff x="516240" y="4815000"/>
            <a:chExt cx="2076840" cy="1954080"/>
          </a:xfrm>
        </p:grpSpPr>
        <p:sp>
          <p:nvSpPr>
            <p:cNvPr id="1087" name=""/>
            <p:cNvSpPr/>
            <p:nvPr/>
          </p:nvSpPr>
          <p:spPr>
            <a:xfrm>
              <a:off x="516240" y="4815000"/>
              <a:ext cx="42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287440" y="64008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OUTPUT17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6520320" y="4176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C no métrico 2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31120" y="3352680"/>
            <a:ext cx="2437920" cy="3402000"/>
            <a:chOff x="231120" y="3352680"/>
            <a:chExt cx="2437920" cy="3402000"/>
          </a:xfrm>
        </p:grpSpPr>
        <p:sp>
          <p:nvSpPr>
            <p:cNvPr id="1092" name=""/>
            <p:cNvSpPr/>
            <p:nvPr/>
          </p:nvSpPr>
          <p:spPr>
            <a:xfrm>
              <a:off x="2363400" y="63864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1120" y="3352680"/>
              <a:ext cx="9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T=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  <a:ea typeface="Arial"/>
                </a:rPr>
                <a:t>m(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576360" y="3825360"/>
            <a:ext cx="276480" cy="2117880"/>
            <a:chOff x="576360" y="3825360"/>
            <a:chExt cx="276480" cy="2117880"/>
          </a:xfrm>
        </p:grpSpPr>
        <p:sp>
          <p:nvSpPr>
            <p:cNvPr id="1095" name=""/>
            <p:cNvSpPr/>
            <p:nvPr/>
          </p:nvSpPr>
          <p:spPr>
            <a:xfrm flipV="1">
              <a:off x="701640" y="4876560"/>
              <a:ext cx="18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16200000">
              <a:off x="178200" y="4223160"/>
              <a:ext cx="107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ispar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933120" y="223920"/>
            <a:ext cx="54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replicad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0" y="1981080"/>
            <a:ext cx="685800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xtensión del EMD para permitir el análisis de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más de una matriz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 de disimilitudes simultáne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286000" y="4419720"/>
            <a:ext cx="6858000" cy="22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Supuesto básico: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La configuración X de los estímulos 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(sus coordenadas)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resulta igualmente válida para todas las matrices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Todas las matrices de datos son réplicas las unas de las otras (son iguales). No existen diferencias sistemáticas entre e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105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2286000" y="3200400"/>
            <a:ext cx="6858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Se basa en el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modelo euclidiano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 para analizar simultáneamente varias matrices de disimil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1752480"/>
            <a:ext cx="4724280" cy="3124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3000" y="22392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vestigación de Mercados 2. Tema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97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0" y="365760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75520" y="22392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clásic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R)</a:t>
            </a: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Mé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286000" y="1981080"/>
            <a:ext cx="6858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sume que los datos de la matriz de disimilitudes están expresados en una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scala 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86000" y="3048120"/>
            <a:ext cx="685800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Ajusta 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(ajuste mínimo cuadrático)</a:t>
            </a: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 las distancias euclídeas al cuadrado 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(la matriz D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Franklin Gothic Medium Cond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, compuesta por los elementos 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ij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) </a:t>
            </a: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a cada matriz de disimilitudes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(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), hasta minimizar el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86000" y="4800600"/>
            <a:ext cx="6858000" cy="190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Dicho ajuste puede representarse mediante la ec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l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{S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} = T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 = D</a:t>
            </a:r>
            <a:r>
              <a:rPr b="0" lang="es-ES_tradnl" sz="2400" spc="-1" strike="noStrike" baseline="30000">
                <a:solidFill>
                  <a:srgbClr val="ff9900"/>
                </a:solidFill>
                <a:latin typeface="Franklin Gothic Medium Cond"/>
              </a:rPr>
              <a:t>2 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+ E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Donde l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{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} es la transformación lineal de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que da lugar al mejor ajuste mínimo cuadrático entre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y D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Franklin Gothic Medium Con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121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>
            <a:hlinkClick r:id="rId1"/>
          </p:cNvPr>
          <p:cNvSpPr/>
          <p:nvPr/>
        </p:nvSpPr>
        <p:spPr>
          <a:xfrm>
            <a:off x="8458200" y="152280"/>
            <a:ext cx="609480" cy="457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9900"/>
                </a:solidFill>
                <a:latin typeface="Webdings"/>
                <a:ea typeface="Webdings"/>
              </a:rPr>
              <a:t>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827640" y="223920"/>
            <a:ext cx="64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clásic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R)</a:t>
            </a: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No Mé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286000" y="1981080"/>
            <a:ext cx="6858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sume que los datos de la matriz de disimilitudes están expresados en una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scala no métrica (ord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286000" y="3048120"/>
            <a:ext cx="685800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Ajusta 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(ajuste mínimo cuadrático)</a:t>
            </a: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 las distancias euclídeas al cuadrado 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(la matriz D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Franklin Gothic Medium Cond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, compuesta por los elementos 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ij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) </a:t>
            </a: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a cada matriz de disimilitudes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(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), hasta minimizar el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86000" y="4800600"/>
            <a:ext cx="6858000" cy="190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Dicho ajuste puede representarse mediante la ec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m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{S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} = T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 = D</a:t>
            </a:r>
            <a:r>
              <a:rPr b="0" lang="es-ES_tradnl" sz="2400" spc="-1" strike="noStrike" baseline="30000">
                <a:solidFill>
                  <a:srgbClr val="ff9900"/>
                </a:solidFill>
                <a:latin typeface="Franklin Gothic Medium Cond"/>
              </a:rPr>
              <a:t>2 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+ E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Donde m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{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} es la transformación monotónica de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que da lugar al mejor ajuste mínimo cuadrático entre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y D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Franklin Gothic Medium Con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137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">
            <a:hlinkClick r:id="rId1"/>
          </p:cNvPr>
          <p:cNvSpPr/>
          <p:nvPr/>
        </p:nvSpPr>
        <p:spPr>
          <a:xfrm>
            <a:off x="8458200" y="152280"/>
            <a:ext cx="609480" cy="457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9900"/>
                </a:solidFill>
                <a:latin typeface="Webdings"/>
                <a:ea typeface="Webdings"/>
              </a:rPr>
              <a:t>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OUTPUT4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6565680" y="41760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R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OUTPUT5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6565680" y="41760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R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OUTPUT18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6522120" y="4176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R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OUTPUT19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6522120" y="4176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R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OUTPUT20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153" name=""/>
          <p:cNvSpPr/>
          <p:nvPr/>
        </p:nvSpPr>
        <p:spPr>
          <a:xfrm>
            <a:off x="6522120" y="4176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R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OUTPUT21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6522120" y="4176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R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6" name="OUTPUT22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6522120" y="4176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R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96400" y="223920"/>
            <a:ext cx="56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ponderad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286000" y="1981080"/>
            <a:ext cx="685800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xtensión del EMD para permitir el análisis de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más de una matriz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 de disimilitudes simultáne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286000" y="4419720"/>
            <a:ext cx="6858000" cy="22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Supuesto: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las distintas matrices de disimilitudes difieren entre sí de forma sistemáticamente no lineal o no monot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n este modelo se definen dos espac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l espacio de estímulos del grupo ( X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l espacio de pesos ( W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166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2286000" y="3200400"/>
            <a:ext cx="6858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Se basa en el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modelo euclidiano ponderado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 para analizar simultáneamente varias matrices de disimil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800" y="22392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troducción: ¿Qué es el escalamiento multidimension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1981080"/>
            <a:ext cx="6858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Determinar la imagen relativa perc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e un conjunto de ob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3276720"/>
            <a:ext cx="685800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Proporciona una representación gráfica en un espacio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 geométrico de pocas dimensiones que permite comprender cómo perciben los individuos los objetos y qué esquemas, generalmente ocultos, están detrás de tales perce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181480"/>
            <a:ext cx="6858000" cy="144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n dichos espacios, los objetos son representados mediante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puntos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 y la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proximidad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 entre ellos refleja la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similitud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 existente entre los mi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13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365760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96400" y="223920"/>
            <a:ext cx="56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ponderad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86000" y="198108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spacio de estímulos para el grupo ( X 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Representa la información compartida por todos los individuos acerca de la estructura de los estím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spa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180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2286000" y="350532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spacio de pesos ( W 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Representa la información específica de cada individuo acerca de la estructura de los estím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86000" y="502920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Esta distinción permite representar las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diferencias respecto a la importancia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 otorgada por cada individuo a las dimensiones del espacio de estímulos para el grupo ( X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286000" y="1981080"/>
            <a:ext cx="6858000" cy="28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343400" y="2919240"/>
                <a:ext cx="2743200" cy="10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a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4081320" y="2919240"/>
                <a:ext cx="3267360" cy="10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a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591000" y="1523880"/>
            <a:ext cx="5176800" cy="5105880"/>
            <a:chOff x="3591000" y="1523880"/>
            <a:chExt cx="5176800" cy="5105880"/>
          </a:xfrm>
        </p:grpSpPr>
        <p:grpSp>
          <p:nvGrpSpPr>
            <p:cNvPr id="1192" name=""/>
            <p:cNvGrpSpPr/>
            <p:nvPr/>
          </p:nvGrpSpPr>
          <p:grpSpPr>
            <a:xfrm>
              <a:off x="4056120" y="1668240"/>
              <a:ext cx="4572000" cy="4579920"/>
              <a:chOff x="4056120" y="1668240"/>
              <a:chExt cx="4572000" cy="4579920"/>
            </a:xfrm>
          </p:grpSpPr>
          <p:sp>
            <p:nvSpPr>
              <p:cNvPr id="1193" name=""/>
              <p:cNvSpPr/>
              <p:nvPr/>
            </p:nvSpPr>
            <p:spPr>
              <a:xfrm>
                <a:off x="4056120" y="1676160"/>
                <a:ext cx="4572000" cy="4572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056120" y="2131920"/>
                <a:ext cx="457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056120" y="2587320"/>
                <a:ext cx="4572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056120" y="3043080"/>
                <a:ext cx="457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056120" y="3498480"/>
                <a:ext cx="4572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056120" y="3954240"/>
                <a:ext cx="4572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056120" y="4410000"/>
                <a:ext cx="457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056120" y="4865400"/>
                <a:ext cx="4572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056120" y="5321160"/>
                <a:ext cx="457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056120" y="5776560"/>
                <a:ext cx="4572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8161560" y="1668240"/>
                <a:ext cx="144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7705800" y="1668240"/>
                <a:ext cx="144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7249680" y="1668240"/>
                <a:ext cx="180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6794640" y="1668240"/>
                <a:ext cx="144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6338520" y="1668240"/>
                <a:ext cx="1800" cy="457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5883480" y="1668240"/>
                <a:ext cx="144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5427720" y="1668240"/>
                <a:ext cx="144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4971600" y="1668240"/>
                <a:ext cx="180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4516560" y="1668240"/>
                <a:ext cx="144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2" name=""/>
            <p:cNvSpPr/>
            <p:nvPr/>
          </p:nvSpPr>
          <p:spPr>
            <a:xfrm>
              <a:off x="3652920" y="1523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652920" y="19778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652920" y="2431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652920" y="28857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652920" y="3339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652920" y="3794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91000" y="42480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591000" y="470196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591000" y="51559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91000" y="560988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591000" y="6063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471160" y="6292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013960" y="6292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556760" y="6292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99560" y="6292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642360" y="6292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185160" y="6292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695920" y="62924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238720" y="62924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1520" y="62924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24320" y="62924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67120" y="62924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5506200" y="1728720"/>
            <a:ext cx="455040" cy="480960"/>
            <a:chOff x="5506200" y="1728720"/>
            <a:chExt cx="455040" cy="480960"/>
          </a:xfrm>
        </p:grpSpPr>
        <p:sp>
          <p:nvSpPr>
            <p:cNvPr id="1235" name=""/>
            <p:cNvSpPr/>
            <p:nvPr/>
          </p:nvSpPr>
          <p:spPr>
            <a:xfrm>
              <a:off x="5808600" y="2057040"/>
              <a:ext cx="152640" cy="152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506200" y="1728720"/>
              <a:ext cx="398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5103000" y="3038400"/>
            <a:ext cx="401040" cy="542880"/>
            <a:chOff x="5103000" y="3038400"/>
            <a:chExt cx="401040" cy="542880"/>
          </a:xfrm>
        </p:grpSpPr>
        <p:sp>
          <p:nvSpPr>
            <p:cNvPr id="1238" name=""/>
            <p:cNvSpPr/>
            <p:nvPr/>
          </p:nvSpPr>
          <p:spPr>
            <a:xfrm>
              <a:off x="5351400" y="3428640"/>
              <a:ext cx="152640" cy="152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103000" y="3038400"/>
              <a:ext cx="398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6420600" y="2185920"/>
            <a:ext cx="455040" cy="480960"/>
            <a:chOff x="6420600" y="2185920"/>
            <a:chExt cx="455040" cy="480960"/>
          </a:xfrm>
        </p:grpSpPr>
        <p:sp>
          <p:nvSpPr>
            <p:cNvPr id="1241" name=""/>
            <p:cNvSpPr/>
            <p:nvPr/>
          </p:nvSpPr>
          <p:spPr>
            <a:xfrm>
              <a:off x="6723000" y="2514240"/>
              <a:ext cx="152640" cy="152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420600" y="2185920"/>
              <a:ext cx="398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7792200" y="4014720"/>
            <a:ext cx="455040" cy="480960"/>
            <a:chOff x="7792200" y="4014720"/>
            <a:chExt cx="455040" cy="480960"/>
          </a:xfrm>
        </p:grpSpPr>
        <p:sp>
          <p:nvSpPr>
            <p:cNvPr id="1244" name=""/>
            <p:cNvSpPr/>
            <p:nvPr/>
          </p:nvSpPr>
          <p:spPr>
            <a:xfrm>
              <a:off x="8094600" y="4343040"/>
              <a:ext cx="152640" cy="152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792200" y="4014720"/>
              <a:ext cx="398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1828800" y="1676520"/>
            <a:ext cx="68580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Dim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666880" y="1676520"/>
            <a:ext cx="68580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Dim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1828800" y="2286000"/>
            <a:ext cx="1523880" cy="2286000"/>
            <a:chOff x="1828800" y="2286000"/>
            <a:chExt cx="1523880" cy="2286000"/>
          </a:xfrm>
        </p:grpSpPr>
        <p:sp>
          <p:nvSpPr>
            <p:cNvPr id="1249" name=""/>
            <p:cNvSpPr/>
            <p:nvPr/>
          </p:nvSpPr>
          <p:spPr>
            <a:xfrm>
              <a:off x="1828800" y="22860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828800" y="28954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828800" y="350532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828800" y="41148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66880" y="22860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66880" y="28954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666880" y="350532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666880" y="41148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-876960" y="223920"/>
            <a:ext cx="9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ponderad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P): Espacio de estímulos para el gru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143000" y="1676520"/>
            <a:ext cx="53352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143000" y="2286000"/>
            <a:ext cx="53352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x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43000" y="2895480"/>
            <a:ext cx="53352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x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143000" y="3505320"/>
            <a:ext cx="53352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x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143000" y="4114800"/>
            <a:ext cx="53352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x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4056120" y="1676520"/>
            <a:ext cx="457200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056120" y="2131920"/>
            <a:ext cx="457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056120" y="258768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056120" y="3043080"/>
            <a:ext cx="457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056120" y="349884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056120" y="395460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056120" y="4410000"/>
            <a:ext cx="457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056120" y="486576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056120" y="5321160"/>
            <a:ext cx="457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056120" y="577692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8160840" y="1668600"/>
            <a:ext cx="180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770580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7249680" y="1668600"/>
            <a:ext cx="180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679464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633888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5882760" y="1668600"/>
            <a:ext cx="180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542772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4971600" y="1668600"/>
            <a:ext cx="180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451656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491640" y="15238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91640" y="19782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491640" y="243216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491640" y="28861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491640" y="33400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491640" y="379404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491640" y="4248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491640" y="47023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491640" y="51562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491640" y="561024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491640" y="60642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3872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300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4728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0156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5584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1012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6440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1868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7296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724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152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037040" y="6230880"/>
            <a:ext cx="36360" cy="36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3979800" y="1752480"/>
            <a:ext cx="514080" cy="457200"/>
            <a:chOff x="3979800" y="1752480"/>
            <a:chExt cx="514080" cy="457200"/>
          </a:xfrm>
        </p:grpSpPr>
        <p:sp>
          <p:nvSpPr>
            <p:cNvPr id="1307" name=""/>
            <p:cNvSpPr/>
            <p:nvPr/>
          </p:nvSpPr>
          <p:spPr>
            <a:xfrm>
              <a:off x="3979800" y="20574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029480" y="1752480"/>
              <a:ext cx="46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w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4894200" y="2209680"/>
            <a:ext cx="514080" cy="457200"/>
            <a:chOff x="4894200" y="2209680"/>
            <a:chExt cx="514080" cy="457200"/>
          </a:xfrm>
        </p:grpSpPr>
        <p:sp>
          <p:nvSpPr>
            <p:cNvPr id="1310" name=""/>
            <p:cNvSpPr/>
            <p:nvPr/>
          </p:nvSpPr>
          <p:spPr>
            <a:xfrm>
              <a:off x="4894200" y="25146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43880" y="2209680"/>
              <a:ext cx="46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w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6723000" y="3124080"/>
            <a:ext cx="514080" cy="457200"/>
            <a:chOff x="6723000" y="3124080"/>
            <a:chExt cx="514080" cy="457200"/>
          </a:xfrm>
        </p:grpSpPr>
        <p:sp>
          <p:nvSpPr>
            <p:cNvPr id="1313" name=""/>
            <p:cNvSpPr/>
            <p:nvPr/>
          </p:nvSpPr>
          <p:spPr>
            <a:xfrm>
              <a:off x="6723000" y="34290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72680" y="3124080"/>
              <a:ext cx="46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w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7637400" y="4952880"/>
            <a:ext cx="514080" cy="457200"/>
            <a:chOff x="7637400" y="4952880"/>
            <a:chExt cx="514080" cy="457200"/>
          </a:xfrm>
        </p:grpSpPr>
        <p:sp>
          <p:nvSpPr>
            <p:cNvPr id="1316" name=""/>
            <p:cNvSpPr/>
            <p:nvPr/>
          </p:nvSpPr>
          <p:spPr>
            <a:xfrm>
              <a:off x="7637400" y="52578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687080" y="4952880"/>
              <a:ext cx="46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w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18" name=""/>
          <p:cNvCxnSpPr>
            <a:stCxn id="1305" idx="0"/>
            <a:endCxn id="1307" idx="4"/>
          </p:cNvCxnSpPr>
          <p:nvPr/>
        </p:nvCxnSpPr>
        <p:spPr>
          <a:xfrm flipV="1">
            <a:off x="4055760" y="2223720"/>
            <a:ext cx="1080" cy="40075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319" name=""/>
          <p:cNvCxnSpPr>
            <a:stCxn id="1305" idx="7"/>
            <a:endCxn id="1310" idx="3"/>
          </p:cNvCxnSpPr>
          <p:nvPr/>
        </p:nvCxnSpPr>
        <p:spPr>
          <a:xfrm flipV="1">
            <a:off x="4068360" y="2658240"/>
            <a:ext cx="848520" cy="35773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320" name=""/>
          <p:cNvCxnSpPr>
            <a:stCxn id="1305" idx="7"/>
            <a:endCxn id="1313" idx="3"/>
          </p:cNvCxnSpPr>
          <p:nvPr/>
        </p:nvCxnSpPr>
        <p:spPr>
          <a:xfrm flipV="1">
            <a:off x="4068360" y="3573000"/>
            <a:ext cx="2677320" cy="26625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grpSp>
        <p:nvGrpSpPr>
          <p:cNvPr id="1321" name=""/>
          <p:cNvGrpSpPr/>
          <p:nvPr/>
        </p:nvGrpSpPr>
        <p:grpSpPr>
          <a:xfrm>
            <a:off x="5808600" y="4038480"/>
            <a:ext cx="514080" cy="457200"/>
            <a:chOff x="5808600" y="4038480"/>
            <a:chExt cx="514080" cy="457200"/>
          </a:xfrm>
        </p:grpSpPr>
        <p:sp>
          <p:nvSpPr>
            <p:cNvPr id="1322" name=""/>
            <p:cNvSpPr/>
            <p:nvPr/>
          </p:nvSpPr>
          <p:spPr>
            <a:xfrm>
              <a:off x="5808600" y="43434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858280" y="4038480"/>
              <a:ext cx="46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w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24" name=""/>
          <p:cNvCxnSpPr>
            <a:stCxn id="1305" idx="7"/>
            <a:endCxn id="1316" idx="2"/>
          </p:cNvCxnSpPr>
          <p:nvPr/>
        </p:nvCxnSpPr>
        <p:spPr>
          <a:xfrm flipV="1">
            <a:off x="4068360" y="5333760"/>
            <a:ext cx="3555000" cy="9021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32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-644040" y="22392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ponderad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P): Espacio de p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828800" y="1676520"/>
            <a:ext cx="68580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Dim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04920" y="2286000"/>
            <a:ext cx="53316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w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04920" y="2895480"/>
            <a:ext cx="53316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w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04920" y="3505320"/>
            <a:ext cx="53316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w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04920" y="4114800"/>
            <a:ext cx="53316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w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990720" y="2286000"/>
            <a:ext cx="1523880" cy="2895480"/>
            <a:chOff x="990720" y="2286000"/>
            <a:chExt cx="1523880" cy="2895480"/>
          </a:xfrm>
        </p:grpSpPr>
        <p:sp>
          <p:nvSpPr>
            <p:cNvPr id="1333" name=""/>
            <p:cNvSpPr/>
            <p:nvPr/>
          </p:nvSpPr>
          <p:spPr>
            <a:xfrm>
              <a:off x="990720" y="22860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990720" y="28954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90720" y="350532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90720" y="41148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28800" y="22860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28800" y="28954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828800" y="350532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828800" y="41148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990720" y="47242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28800" y="47242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304920" y="4724280"/>
            <a:ext cx="53316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w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2666880" y="1676520"/>
            <a:ext cx="685800" cy="3504960"/>
            <a:chOff x="2666880" y="1676520"/>
            <a:chExt cx="685800" cy="3504960"/>
          </a:xfrm>
        </p:grpSpPr>
        <p:sp>
          <p:nvSpPr>
            <p:cNvPr id="1345" name=""/>
            <p:cNvSpPr/>
            <p:nvPr/>
          </p:nvSpPr>
          <p:spPr>
            <a:xfrm>
              <a:off x="2666880" y="1676520"/>
              <a:ext cx="68580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Lon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66880" y="22860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66880" y="28954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8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66880" y="350532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666880" y="41148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66880" y="47242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8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990720" y="1676520"/>
            <a:ext cx="68580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Dim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04920" y="1676520"/>
            <a:ext cx="53316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3" name=""/>
          <p:cNvGrpSpPr/>
          <p:nvPr/>
        </p:nvGrpSpPr>
        <p:grpSpPr>
          <a:xfrm>
            <a:off x="3591000" y="1523880"/>
            <a:ext cx="5176800" cy="5105880"/>
            <a:chOff x="3591000" y="1523880"/>
            <a:chExt cx="5176800" cy="5105880"/>
          </a:xfrm>
        </p:grpSpPr>
        <p:grpSp>
          <p:nvGrpSpPr>
            <p:cNvPr id="1354" name=""/>
            <p:cNvGrpSpPr/>
            <p:nvPr/>
          </p:nvGrpSpPr>
          <p:grpSpPr>
            <a:xfrm>
              <a:off x="4056120" y="1668240"/>
              <a:ext cx="4572000" cy="4579920"/>
              <a:chOff x="4056120" y="1668240"/>
              <a:chExt cx="4572000" cy="4579920"/>
            </a:xfrm>
          </p:grpSpPr>
          <p:sp>
            <p:nvSpPr>
              <p:cNvPr id="1355" name=""/>
              <p:cNvSpPr/>
              <p:nvPr/>
            </p:nvSpPr>
            <p:spPr>
              <a:xfrm>
                <a:off x="4056120" y="1676160"/>
                <a:ext cx="4572000" cy="4572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056120" y="2131920"/>
                <a:ext cx="457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056120" y="2587320"/>
                <a:ext cx="4572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056120" y="3043080"/>
                <a:ext cx="457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056120" y="3498480"/>
                <a:ext cx="4572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056120" y="3954240"/>
                <a:ext cx="4572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056120" y="4410000"/>
                <a:ext cx="457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056120" y="4865400"/>
                <a:ext cx="4572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056120" y="5321160"/>
                <a:ext cx="457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056120" y="5776560"/>
                <a:ext cx="4572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8161560" y="1668240"/>
                <a:ext cx="144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7705800" y="1668240"/>
                <a:ext cx="144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7249680" y="1668240"/>
                <a:ext cx="180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6794640" y="1668240"/>
                <a:ext cx="144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6338520" y="1668240"/>
                <a:ext cx="1800" cy="457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5883480" y="1668240"/>
                <a:ext cx="144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5427720" y="1668240"/>
                <a:ext cx="144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4971600" y="1668240"/>
                <a:ext cx="180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4516560" y="1668240"/>
                <a:ext cx="1440" cy="45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3652920" y="1523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652920" y="19778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652920" y="2431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652920" y="28857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652920" y="3339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652920" y="3794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591000" y="42480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591000" y="470196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591000" y="51559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591000" y="560988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591000" y="6063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471160" y="6292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013960" y="6292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556760" y="6292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099560" y="6292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42360" y="6292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185160" y="6292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695920" y="62924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238720" y="62924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81520" y="62924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324320" y="62924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67120" y="62924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-899640" y="223920"/>
            <a:ext cx="9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ponderad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P): Espacio personales para el sujeto 2 y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5161680" y="2490840"/>
            <a:ext cx="2892960" cy="1724040"/>
            <a:chOff x="5161680" y="2490840"/>
            <a:chExt cx="2892960" cy="1724040"/>
          </a:xfrm>
        </p:grpSpPr>
        <p:grpSp>
          <p:nvGrpSpPr>
            <p:cNvPr id="1399" name=""/>
            <p:cNvGrpSpPr/>
            <p:nvPr/>
          </p:nvGrpSpPr>
          <p:grpSpPr>
            <a:xfrm>
              <a:off x="5564880" y="2743200"/>
              <a:ext cx="455040" cy="480960"/>
              <a:chOff x="5564880" y="2743200"/>
              <a:chExt cx="455040" cy="480960"/>
            </a:xfrm>
          </p:grpSpPr>
          <p:sp>
            <p:nvSpPr>
              <p:cNvPr id="1400" name=""/>
              <p:cNvSpPr/>
              <p:nvPr/>
            </p:nvSpPr>
            <p:spPr>
              <a:xfrm>
                <a:off x="5867280" y="3071520"/>
                <a:ext cx="152640" cy="152640"/>
              </a:xfrm>
              <a:prstGeom prst="ellipse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564880" y="2743200"/>
                <a:ext cx="398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Franklin Gothic Medium Cond"/>
                  </a:rPr>
                  <a:t>x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Franklin Gothic Medium Cond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5161680" y="3267000"/>
              <a:ext cx="401040" cy="542880"/>
              <a:chOff x="5161680" y="3267000"/>
              <a:chExt cx="401040" cy="542880"/>
            </a:xfrm>
          </p:grpSpPr>
          <p:sp>
            <p:nvSpPr>
              <p:cNvPr id="1403" name=""/>
              <p:cNvSpPr/>
              <p:nvPr/>
            </p:nvSpPr>
            <p:spPr>
              <a:xfrm>
                <a:off x="5410080" y="3657240"/>
                <a:ext cx="152640" cy="152640"/>
              </a:xfrm>
              <a:prstGeom prst="ellipse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161680" y="3267000"/>
                <a:ext cx="398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Franklin Gothic Medium Cond"/>
                  </a:rPr>
                  <a:t>x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Franklin Gothic Medium Cond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6326640" y="2490840"/>
              <a:ext cx="454680" cy="480960"/>
              <a:chOff x="6326640" y="2490840"/>
              <a:chExt cx="454680" cy="480960"/>
            </a:xfrm>
          </p:grpSpPr>
          <p:sp>
            <p:nvSpPr>
              <p:cNvPr id="1406" name=""/>
              <p:cNvSpPr/>
              <p:nvPr/>
            </p:nvSpPr>
            <p:spPr>
              <a:xfrm>
                <a:off x="6629040" y="2819160"/>
                <a:ext cx="152280" cy="152640"/>
              </a:xfrm>
              <a:prstGeom prst="ellipse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326640" y="2490840"/>
                <a:ext cx="398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Franklin Gothic Medium Cond"/>
                  </a:rPr>
                  <a:t>x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Franklin Gothic Medium Cond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7599960" y="3733920"/>
              <a:ext cx="454680" cy="480960"/>
              <a:chOff x="7599960" y="3733920"/>
              <a:chExt cx="454680" cy="480960"/>
            </a:xfrm>
          </p:grpSpPr>
          <p:sp>
            <p:nvSpPr>
              <p:cNvPr id="1409" name=""/>
              <p:cNvSpPr/>
              <p:nvPr/>
            </p:nvSpPr>
            <p:spPr>
              <a:xfrm>
                <a:off x="7902360" y="4062240"/>
                <a:ext cx="152280" cy="152640"/>
              </a:xfrm>
              <a:prstGeom prst="ellipse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599960" y="3733920"/>
                <a:ext cx="398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Franklin Gothic Medium Cond"/>
                  </a:rPr>
                  <a:t>x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Franklin Gothic Medium Cond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1" name=""/>
          <p:cNvGrpSpPr/>
          <p:nvPr/>
        </p:nvGrpSpPr>
        <p:grpSpPr>
          <a:xfrm>
            <a:off x="5618880" y="1965240"/>
            <a:ext cx="1598040" cy="2478240"/>
            <a:chOff x="5618880" y="1965240"/>
            <a:chExt cx="1598040" cy="2478240"/>
          </a:xfrm>
        </p:grpSpPr>
        <p:sp>
          <p:nvSpPr>
            <p:cNvPr id="1412" name=""/>
            <p:cNvSpPr/>
            <p:nvPr/>
          </p:nvSpPr>
          <p:spPr>
            <a:xfrm>
              <a:off x="6019920" y="22860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717160" y="1965240"/>
              <a:ext cx="398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67280" y="3505320"/>
              <a:ext cx="152640" cy="1522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618880" y="3114720"/>
              <a:ext cx="398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477120" y="2690640"/>
              <a:ext cx="152280" cy="152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174360" y="2362320"/>
              <a:ext cx="398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064280" y="4290840"/>
              <a:ext cx="152640" cy="152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761880" y="3962520"/>
              <a:ext cx="398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x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5103000" y="1728720"/>
            <a:ext cx="3144240" cy="2766960"/>
            <a:chOff x="5103000" y="1728720"/>
            <a:chExt cx="3144240" cy="2766960"/>
          </a:xfrm>
        </p:grpSpPr>
        <p:grpSp>
          <p:nvGrpSpPr>
            <p:cNvPr id="1421" name=""/>
            <p:cNvGrpSpPr/>
            <p:nvPr/>
          </p:nvGrpSpPr>
          <p:grpSpPr>
            <a:xfrm>
              <a:off x="5506200" y="1728720"/>
              <a:ext cx="455040" cy="480960"/>
              <a:chOff x="5506200" y="1728720"/>
              <a:chExt cx="455040" cy="480960"/>
            </a:xfrm>
          </p:grpSpPr>
          <p:sp>
            <p:nvSpPr>
              <p:cNvPr id="1422" name=""/>
              <p:cNvSpPr/>
              <p:nvPr/>
            </p:nvSpPr>
            <p:spPr>
              <a:xfrm>
                <a:off x="5808600" y="2057040"/>
                <a:ext cx="152640" cy="152640"/>
              </a:xfrm>
              <a:prstGeom prst="ellipse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506200" y="1728720"/>
                <a:ext cx="398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Franklin Gothic Medium Cond"/>
                  </a:rPr>
                  <a:t>x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Franklin Gothic Medium Cond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5103000" y="3038400"/>
              <a:ext cx="401040" cy="542880"/>
              <a:chOff x="5103000" y="3038400"/>
              <a:chExt cx="401040" cy="542880"/>
            </a:xfrm>
          </p:grpSpPr>
          <p:sp>
            <p:nvSpPr>
              <p:cNvPr id="1425" name=""/>
              <p:cNvSpPr/>
              <p:nvPr/>
            </p:nvSpPr>
            <p:spPr>
              <a:xfrm>
                <a:off x="5351400" y="3428640"/>
                <a:ext cx="152640" cy="152640"/>
              </a:xfrm>
              <a:prstGeom prst="ellipse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103000" y="3038400"/>
                <a:ext cx="398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Franklin Gothic Medium Cond"/>
                  </a:rPr>
                  <a:t>x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Franklin Gothic Medium Cond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6420600" y="2185920"/>
              <a:ext cx="455040" cy="480960"/>
              <a:chOff x="6420600" y="2185920"/>
              <a:chExt cx="455040" cy="480960"/>
            </a:xfrm>
          </p:grpSpPr>
          <p:sp>
            <p:nvSpPr>
              <p:cNvPr id="1428" name=""/>
              <p:cNvSpPr/>
              <p:nvPr/>
            </p:nvSpPr>
            <p:spPr>
              <a:xfrm>
                <a:off x="6723000" y="2514240"/>
                <a:ext cx="152640" cy="152640"/>
              </a:xfrm>
              <a:prstGeom prst="ellipse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420600" y="2185920"/>
                <a:ext cx="398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Franklin Gothic Medium Cond"/>
                  </a:rPr>
                  <a:t>x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Franklin Gothic Medium Cond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7792200" y="4014720"/>
              <a:ext cx="455040" cy="480960"/>
              <a:chOff x="7792200" y="4014720"/>
              <a:chExt cx="455040" cy="480960"/>
            </a:xfrm>
          </p:grpSpPr>
          <p:sp>
            <p:nvSpPr>
              <p:cNvPr id="1431" name=""/>
              <p:cNvSpPr/>
              <p:nvPr/>
            </p:nvSpPr>
            <p:spPr>
              <a:xfrm>
                <a:off x="8094600" y="4343040"/>
                <a:ext cx="152640" cy="152640"/>
              </a:xfrm>
              <a:prstGeom prst="ellipse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792200" y="4014720"/>
                <a:ext cx="398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Franklin Gothic Medium Cond"/>
                  </a:rPr>
                  <a:t>x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Franklin Gothic Medium Cond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3" name=""/>
          <p:cNvGrpSpPr/>
          <p:nvPr/>
        </p:nvGrpSpPr>
        <p:grpSpPr>
          <a:xfrm>
            <a:off x="1143000" y="1676520"/>
            <a:ext cx="2209680" cy="2895480"/>
            <a:chOff x="1143000" y="1676520"/>
            <a:chExt cx="2209680" cy="2895480"/>
          </a:xfrm>
        </p:grpSpPr>
        <p:sp>
          <p:nvSpPr>
            <p:cNvPr id="1434" name=""/>
            <p:cNvSpPr/>
            <p:nvPr/>
          </p:nvSpPr>
          <p:spPr>
            <a:xfrm>
              <a:off x="1828800" y="1676520"/>
              <a:ext cx="68580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Dim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666880" y="1676520"/>
              <a:ext cx="68580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Dim 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143000" y="1676520"/>
              <a:ext cx="53352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43000" y="2286000"/>
              <a:ext cx="53352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43000" y="2895480"/>
              <a:ext cx="53352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43000" y="3505320"/>
              <a:ext cx="53352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143000" y="4114800"/>
              <a:ext cx="53352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1" name=""/>
            <p:cNvGrpSpPr/>
            <p:nvPr/>
          </p:nvGrpSpPr>
          <p:grpSpPr>
            <a:xfrm>
              <a:off x="1828800" y="2286000"/>
              <a:ext cx="1523880" cy="2286000"/>
              <a:chOff x="1828800" y="2286000"/>
              <a:chExt cx="1523880" cy="2286000"/>
            </a:xfrm>
          </p:grpSpPr>
          <p:sp>
            <p:nvSpPr>
              <p:cNvPr id="1442" name=""/>
              <p:cNvSpPr/>
              <p:nvPr/>
            </p:nvSpPr>
            <p:spPr>
              <a:xfrm>
                <a:off x="1828800" y="228600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828800" y="289548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828800" y="350532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828800" y="411480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666880" y="228600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666880" y="289548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666880" y="350532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666880" y="411480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0" name=""/>
          <p:cNvGrpSpPr/>
          <p:nvPr/>
        </p:nvGrpSpPr>
        <p:grpSpPr>
          <a:xfrm>
            <a:off x="1143000" y="1676520"/>
            <a:ext cx="2209680" cy="3504960"/>
            <a:chOff x="1143000" y="1676520"/>
            <a:chExt cx="2209680" cy="3504960"/>
          </a:xfrm>
        </p:grpSpPr>
        <p:sp>
          <p:nvSpPr>
            <p:cNvPr id="1451" name=""/>
            <p:cNvSpPr/>
            <p:nvPr/>
          </p:nvSpPr>
          <p:spPr>
            <a:xfrm>
              <a:off x="1828800" y="1676520"/>
              <a:ext cx="68580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Dim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66880" y="1676520"/>
              <a:ext cx="68580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Dim 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143000" y="1676520"/>
              <a:ext cx="53316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43000" y="2286000"/>
              <a:ext cx="53316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143000" y="2895480"/>
              <a:ext cx="53316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143000" y="3505320"/>
              <a:ext cx="53316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143000" y="4114800"/>
              <a:ext cx="53316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828800" y="4724280"/>
              <a:ext cx="68580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666880" y="4724280"/>
              <a:ext cx="68580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43000" y="4724280"/>
              <a:ext cx="53316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w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1" name=""/>
            <p:cNvGrpSpPr/>
            <p:nvPr/>
          </p:nvGrpSpPr>
          <p:grpSpPr>
            <a:xfrm>
              <a:off x="1828800" y="2286000"/>
              <a:ext cx="1523880" cy="2286000"/>
              <a:chOff x="1828800" y="2286000"/>
              <a:chExt cx="1523880" cy="2286000"/>
            </a:xfrm>
          </p:grpSpPr>
          <p:sp>
            <p:nvSpPr>
              <p:cNvPr id="1462" name=""/>
              <p:cNvSpPr/>
              <p:nvPr/>
            </p:nvSpPr>
            <p:spPr>
              <a:xfrm>
                <a:off x="1828800" y="228600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828800" y="289548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828800" y="350532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828800" y="411480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666880" y="228600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666880" y="289548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666880" y="350532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666880" y="411480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0" name=""/>
          <p:cNvGrpSpPr/>
          <p:nvPr/>
        </p:nvGrpSpPr>
        <p:grpSpPr>
          <a:xfrm>
            <a:off x="1828800" y="2286000"/>
            <a:ext cx="1523880" cy="2286000"/>
            <a:chOff x="1828800" y="2286000"/>
            <a:chExt cx="1523880" cy="2286000"/>
          </a:xfrm>
        </p:grpSpPr>
        <p:sp>
          <p:nvSpPr>
            <p:cNvPr id="1471" name=""/>
            <p:cNvSpPr/>
            <p:nvPr/>
          </p:nvSpPr>
          <p:spPr>
            <a:xfrm>
              <a:off x="1828800" y="22860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-0.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828800" y="28954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-0.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828800" y="350532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828800" y="41148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1.7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22860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666880" y="28954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3.5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666880" y="350532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2.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666880" y="41148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-0.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1143000" y="1676520"/>
            <a:ext cx="2209680" cy="3504960"/>
            <a:chOff x="1143000" y="1676520"/>
            <a:chExt cx="2209680" cy="3504960"/>
          </a:xfrm>
        </p:grpSpPr>
        <p:sp>
          <p:nvSpPr>
            <p:cNvPr id="1480" name=""/>
            <p:cNvSpPr/>
            <p:nvPr/>
          </p:nvSpPr>
          <p:spPr>
            <a:xfrm>
              <a:off x="1828800" y="1676520"/>
              <a:ext cx="68580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Dim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666880" y="1676520"/>
              <a:ext cx="68580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Dim 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43000" y="1676520"/>
              <a:ext cx="53352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43000" y="2286000"/>
              <a:ext cx="53352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43000" y="2895480"/>
              <a:ext cx="53352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43000" y="3505320"/>
              <a:ext cx="53352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43000" y="4114800"/>
              <a:ext cx="53352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x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828800" y="4724280"/>
              <a:ext cx="68580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666880" y="4724280"/>
              <a:ext cx="68580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143000" y="4724280"/>
              <a:ext cx="53352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w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0" name=""/>
            <p:cNvGrpSpPr/>
            <p:nvPr/>
          </p:nvGrpSpPr>
          <p:grpSpPr>
            <a:xfrm>
              <a:off x="1828800" y="2286000"/>
              <a:ext cx="1523880" cy="2286000"/>
              <a:chOff x="1828800" y="2286000"/>
              <a:chExt cx="1523880" cy="2286000"/>
            </a:xfrm>
          </p:grpSpPr>
          <p:sp>
            <p:nvSpPr>
              <p:cNvPr id="1491" name=""/>
              <p:cNvSpPr/>
              <p:nvPr/>
            </p:nvSpPr>
            <p:spPr>
              <a:xfrm>
                <a:off x="1828800" y="228600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828800" y="289548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828800" y="350532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828800" y="411480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666880" y="228600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666880" y="289548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666880" y="350532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666880" y="4114800"/>
                <a:ext cx="685800" cy="4572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9" name=""/>
          <p:cNvGrpSpPr/>
          <p:nvPr/>
        </p:nvGrpSpPr>
        <p:grpSpPr>
          <a:xfrm>
            <a:off x="1828800" y="2286000"/>
            <a:ext cx="1523880" cy="2286000"/>
            <a:chOff x="1828800" y="2286000"/>
            <a:chExt cx="1523880" cy="2286000"/>
          </a:xfrm>
        </p:grpSpPr>
        <p:sp>
          <p:nvSpPr>
            <p:cNvPr id="1500" name=""/>
            <p:cNvSpPr/>
            <p:nvPr/>
          </p:nvSpPr>
          <p:spPr>
            <a:xfrm>
              <a:off x="1828800" y="22860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-1.7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28800" y="28954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-0.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28800" y="350532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828800" y="41148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3.5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666880" y="22860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666880" y="28954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1.7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666880" y="350532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1.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66880" y="41148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-0.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873000" y="223920"/>
            <a:ext cx="60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clásic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P)</a:t>
            </a: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Mé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286000" y="1981080"/>
            <a:ext cx="6858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sume que los datos de la matriz de disimilitudes están expresados en una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scala 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2286000" y="3048120"/>
            <a:ext cx="685800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Ajusta 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(ajuste mínimo cuadrático)</a:t>
            </a: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 las distancias euclídeas al cuadrado de cada sujeto k 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(la matriz 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Franklin Gothic Medium Cond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, compuesta por los elementos 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ij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) </a:t>
            </a: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a cada matriz de disimilitudes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(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), hasta minimizar el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286000" y="4800600"/>
            <a:ext cx="6858000" cy="190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Dicho ajuste puede representarse mediante la ec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l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{S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} = T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 = D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 baseline="30000">
                <a:solidFill>
                  <a:srgbClr val="ff9900"/>
                </a:solidFill>
                <a:latin typeface="Franklin Gothic Medium Cond"/>
              </a:rPr>
              <a:t>2 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+ E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Donde l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{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} es la transformación lineal de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que da lugar al mejor ajuste mínimo cuadrático entre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y 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Franklin Gothic Medium Con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517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">
            <a:hlinkClick r:id="rId1"/>
          </p:cNvPr>
          <p:cNvSpPr/>
          <p:nvPr/>
        </p:nvSpPr>
        <p:spPr>
          <a:xfrm>
            <a:off x="8458200" y="152280"/>
            <a:ext cx="609480" cy="457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9900"/>
                </a:solidFill>
                <a:latin typeface="Webdings"/>
                <a:ea typeface="Webdings"/>
              </a:rPr>
              <a:t>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OUTPUT6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525" name=""/>
          <p:cNvSpPr/>
          <p:nvPr/>
        </p:nvSpPr>
        <p:spPr>
          <a:xfrm>
            <a:off x="6563160" y="41760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P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OUTPUT7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527" name=""/>
          <p:cNvSpPr/>
          <p:nvPr/>
        </p:nvSpPr>
        <p:spPr>
          <a:xfrm>
            <a:off x="6563160" y="41760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P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OUTPUT8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529" name=""/>
          <p:cNvSpPr/>
          <p:nvPr/>
        </p:nvSpPr>
        <p:spPr>
          <a:xfrm>
            <a:off x="6563160" y="41760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P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825120" y="223920"/>
            <a:ext cx="64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clásic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P)</a:t>
            </a: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No Mé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286000" y="1981080"/>
            <a:ext cx="6858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Asume que los datos de la matriz de disimilitudes están expresados en una </a:t>
            </a:r>
            <a:r>
              <a:rPr b="0" lang="en-US" sz="2000" spc="-1" strike="noStrike">
                <a:solidFill>
                  <a:srgbClr val="ff9900"/>
                </a:solidFill>
                <a:latin typeface="Franklin Gothic Medium Cond"/>
              </a:rPr>
              <a:t>escala no métrica (ord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286000" y="3048120"/>
            <a:ext cx="685800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Ajusta 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(ajuste mínimo cuadrático)</a:t>
            </a: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 las distancias euclídeas al cuadrado de cada sujeto k 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(la matriz 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Franklin Gothic Medium Cond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, compuesta por los elementos 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ij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) </a:t>
            </a:r>
            <a:r>
              <a:rPr b="0" lang="es-ES_tradnl" sz="2000" spc="-1" strike="noStrike">
                <a:solidFill>
                  <a:srgbClr val="ff9900"/>
                </a:solidFill>
                <a:latin typeface="Franklin Gothic Medium Cond"/>
              </a:rPr>
              <a:t>a cada matriz de disimilitudes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(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), hasta minimizar el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286000" y="4800600"/>
            <a:ext cx="6858000" cy="190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Dicho ajuste puede representarse mediante la ec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m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{S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} = T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 = D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r>
              <a:rPr b="0" lang="es-ES_tradnl" sz="2400" spc="-1" strike="noStrike" baseline="30000">
                <a:solidFill>
                  <a:srgbClr val="ff9900"/>
                </a:solidFill>
                <a:latin typeface="Franklin Gothic Medium Cond"/>
              </a:rPr>
              <a:t>2 </a:t>
            </a:r>
            <a:r>
              <a:rPr b="0" lang="es-ES_tradnl" sz="2400" spc="-1" strike="noStrike">
                <a:solidFill>
                  <a:srgbClr val="ff9900"/>
                </a:solidFill>
                <a:latin typeface="Franklin Gothic Medium Cond"/>
              </a:rPr>
              <a:t>+ E</a:t>
            </a:r>
            <a:r>
              <a:rPr b="0" lang="es-ES_tradnl" sz="2400" spc="-1" strike="noStrike" baseline="-25000">
                <a:solidFill>
                  <a:srgbClr val="ff9900"/>
                </a:solidFill>
                <a:latin typeface="Franklin Gothic Medium Cond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Donde m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{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} es la transformación monotónica de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que da lugar al mejor ajuste mínimo cuadrático entre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Franklin Gothic Medium Cond"/>
              </a:rPr>
              <a:t> y 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Franklin Gothic Medium Cond"/>
              </a:rPr>
              <a:t>k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Franklin Gothic Medium Con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539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5" name="">
            <a:hlinkClick r:id="rId1"/>
          </p:cNvPr>
          <p:cNvSpPr/>
          <p:nvPr/>
        </p:nvSpPr>
        <p:spPr>
          <a:xfrm>
            <a:off x="8458200" y="152280"/>
            <a:ext cx="609480" cy="457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9900"/>
                </a:solidFill>
                <a:latin typeface="Webdings"/>
                <a:ea typeface="Webdings"/>
              </a:rPr>
              <a:t>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OUTPUT23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547" name=""/>
          <p:cNvSpPr/>
          <p:nvPr/>
        </p:nvSpPr>
        <p:spPr>
          <a:xfrm>
            <a:off x="6519600" y="41760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P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800" y="22392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troducción: ¿Qué es el escalamiento multidimension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1981080"/>
            <a:ext cx="6858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Transformar los juicios de similitud o preferencias llevados a cabo por los individuos en distancias susceptibles de ser representadas en un espacio mult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09680" y="1898640"/>
            <a:ext cx="6934320" cy="4952880"/>
            <a:chOff x="2209680" y="1898640"/>
            <a:chExt cx="6934320" cy="4952880"/>
          </a:xfrm>
        </p:grpSpPr>
        <p:sp>
          <p:nvSpPr>
            <p:cNvPr id="127" name=""/>
            <p:cNvSpPr/>
            <p:nvPr/>
          </p:nvSpPr>
          <p:spPr>
            <a:xfrm>
              <a:off x="2209680" y="1898640"/>
              <a:ext cx="6934320" cy="495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590920" y="3200400"/>
              <a:ext cx="990360" cy="3124080"/>
              <a:chOff x="2590920" y="3200400"/>
              <a:chExt cx="990360" cy="3124080"/>
            </a:xfrm>
          </p:grpSpPr>
          <p:sp>
            <p:nvSpPr>
              <p:cNvPr id="129" name=""/>
              <p:cNvSpPr/>
              <p:nvPr/>
            </p:nvSpPr>
            <p:spPr>
              <a:xfrm>
                <a:off x="2590920" y="3200400"/>
                <a:ext cx="990360" cy="6094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Marca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90920" y="4038480"/>
                <a:ext cx="990360" cy="6098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Marca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90920" y="4876920"/>
                <a:ext cx="990360" cy="6094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Marca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90920" y="5715000"/>
                <a:ext cx="990360" cy="6094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Marca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2590920" y="2362320"/>
            <a:ext cx="5867280" cy="609480"/>
            <a:chOff x="2590920" y="2362320"/>
            <a:chExt cx="5867280" cy="609480"/>
          </a:xfrm>
        </p:grpSpPr>
        <p:sp>
          <p:nvSpPr>
            <p:cNvPr id="134" name=""/>
            <p:cNvSpPr/>
            <p:nvPr/>
          </p:nvSpPr>
          <p:spPr>
            <a:xfrm>
              <a:off x="3809880" y="2362320"/>
              <a:ext cx="99072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0920" y="2362320"/>
              <a:ext cx="99036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29200" y="2362320"/>
              <a:ext cx="99072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2362320"/>
              <a:ext cx="99036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67480" y="2362320"/>
              <a:ext cx="990720" cy="609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Marca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809880" y="3200400"/>
            <a:ext cx="4648320" cy="3124080"/>
            <a:chOff x="3809880" y="3200400"/>
            <a:chExt cx="4648320" cy="3124080"/>
          </a:xfrm>
        </p:grpSpPr>
        <p:sp>
          <p:nvSpPr>
            <p:cNvPr id="140" name=""/>
            <p:cNvSpPr/>
            <p:nvPr/>
          </p:nvSpPr>
          <p:spPr>
            <a:xfrm>
              <a:off x="3809880" y="32004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4038480"/>
              <a:ext cx="99072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880" y="487692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9880" y="57150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29200" y="32004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4038480"/>
              <a:ext cx="99072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29200" y="487692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57150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48520" y="3200400"/>
              <a:ext cx="99036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8520" y="4038480"/>
              <a:ext cx="99036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4876920"/>
              <a:ext cx="99036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5715000"/>
              <a:ext cx="99036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67480" y="32004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7480" y="4038480"/>
              <a:ext cx="990720" cy="60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67480" y="487692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67480" y="5715000"/>
              <a:ext cx="990720" cy="609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209680" y="2139480"/>
            <a:ext cx="6775920" cy="4644000"/>
            <a:chOff x="2209680" y="2139480"/>
            <a:chExt cx="6775920" cy="4644000"/>
          </a:xfrm>
        </p:grpSpPr>
        <p:sp>
          <p:nvSpPr>
            <p:cNvPr id="157" name=""/>
            <p:cNvSpPr/>
            <p:nvPr/>
          </p:nvSpPr>
          <p:spPr>
            <a:xfrm>
              <a:off x="7453080" y="64152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imensió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1627560" y="27216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imensió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2362320"/>
              <a:ext cx="6095880" cy="403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71800" y="533412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5680" y="266688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80720" y="54100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3480" y="397656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6360" y="40528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09280" y="2743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38680" y="23623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90920" y="438156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59680" y="473868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65720" y="48150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71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0" y="365760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OUTPUT24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/>
          <p:nvPr/>
        </p:nvSpPr>
        <p:spPr>
          <a:xfrm>
            <a:off x="6519600" y="41760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P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0" name="OUTPUT25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551" name=""/>
          <p:cNvSpPr/>
          <p:nvPr/>
        </p:nvSpPr>
        <p:spPr>
          <a:xfrm>
            <a:off x="6519600" y="41760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P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2" name="OUTPUT26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553" name=""/>
          <p:cNvSpPr/>
          <p:nvPr/>
        </p:nvSpPr>
        <p:spPr>
          <a:xfrm>
            <a:off x="6519600" y="41760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P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OUTPUT27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555" name=""/>
          <p:cNvSpPr/>
          <p:nvPr/>
        </p:nvSpPr>
        <p:spPr>
          <a:xfrm>
            <a:off x="6519600" y="41760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P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6" name="OUTPUT28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6519600" y="41760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P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OUTPUT29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6519600" y="41760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P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OUTPUT30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561" name=""/>
          <p:cNvSpPr/>
          <p:nvPr/>
        </p:nvSpPr>
        <p:spPr>
          <a:xfrm>
            <a:off x="6519600" y="41760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P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62" name=""/>
          <p:cNvCxnSpPr>
            <a:endCxn id="1563" idx="2"/>
          </p:cNvCxnSpPr>
          <p:nvPr/>
        </p:nvCxnSpPr>
        <p:spPr>
          <a:xfrm flipV="1">
            <a:off x="4073400" y="5790600"/>
            <a:ext cx="3990240" cy="4402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564" name=""/>
          <p:cNvSpPr/>
          <p:nvPr/>
        </p:nvSpPr>
        <p:spPr>
          <a:xfrm>
            <a:off x="3491640" y="15238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491640" y="19782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491640" y="243216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491640" y="28861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491640" y="33400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491640" y="379404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491640" y="4248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91640" y="47023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491640" y="51562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491640" y="561024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491640" y="60642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83872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9300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4728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0156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5584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1012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6440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1868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7296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2724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152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-667080" y="223920"/>
            <a:ext cx="75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ponderado </a:t>
            </a: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(EMDP): Índices de rar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056120" y="1676520"/>
            <a:ext cx="457200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056120" y="2131920"/>
            <a:ext cx="457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056120" y="258768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056120" y="3043080"/>
            <a:ext cx="457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056120" y="349884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056120" y="395460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056120" y="4410000"/>
            <a:ext cx="457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056120" y="486576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056120" y="5321160"/>
            <a:ext cx="457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056120" y="577692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8160840" y="1668600"/>
            <a:ext cx="180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770580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7249680" y="1668600"/>
            <a:ext cx="180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679464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633888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5882760" y="1668600"/>
            <a:ext cx="180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542772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4971600" y="1668600"/>
            <a:ext cx="180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451656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4894200" y="2209680"/>
            <a:ext cx="517680" cy="457200"/>
            <a:chOff x="4894200" y="2209680"/>
            <a:chExt cx="517680" cy="457200"/>
          </a:xfrm>
        </p:grpSpPr>
        <p:sp>
          <p:nvSpPr>
            <p:cNvPr id="1608" name=""/>
            <p:cNvSpPr/>
            <p:nvPr/>
          </p:nvSpPr>
          <p:spPr>
            <a:xfrm>
              <a:off x="4894200" y="25146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37040" y="2209680"/>
              <a:ext cx="47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w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6705720" y="1752480"/>
            <a:ext cx="523080" cy="457200"/>
            <a:chOff x="6705720" y="1752480"/>
            <a:chExt cx="523080" cy="457200"/>
          </a:xfrm>
        </p:grpSpPr>
        <p:sp>
          <p:nvSpPr>
            <p:cNvPr id="1611" name=""/>
            <p:cNvSpPr/>
            <p:nvPr/>
          </p:nvSpPr>
          <p:spPr>
            <a:xfrm>
              <a:off x="6705720" y="20574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752160" y="1752480"/>
              <a:ext cx="47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w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13" name=""/>
          <p:cNvCxnSpPr>
            <a:endCxn id="1608" idx="3"/>
          </p:cNvCxnSpPr>
          <p:nvPr/>
        </p:nvCxnSpPr>
        <p:spPr>
          <a:xfrm flipV="1">
            <a:off x="4068360" y="2658600"/>
            <a:ext cx="848520" cy="35582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614" name=""/>
          <p:cNvSpPr/>
          <p:nvPr/>
        </p:nvSpPr>
        <p:spPr>
          <a:xfrm flipV="1">
            <a:off x="4051440" y="1676520"/>
            <a:ext cx="4572000" cy="45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817720" y="4980960"/>
            <a:ext cx="243828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14" y="373"/>
                </a:moveTo>
                <a:arcTo wR="10800" hR="10800" stAng="-4493961" swAng="4493961"/>
                <a:lnTo>
                  <a:pt x="10800" y="10800"/>
                </a:lnTo>
                <a:close/>
              </a:path>
              <a:path fill="none" w="21600" h="21600">
                <a:moveTo>
                  <a:pt x="13614" y="373"/>
                </a:moveTo>
                <a:arcTo wR="10800" hR="10800" stAng="-4493961" swAng="4493961"/>
              </a:path>
            </a:pathLst>
          </a:custGeom>
          <a:noFill/>
          <a:ln w="28440">
            <a:solidFill>
              <a:srgbClr val="80808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047760" y="5223600"/>
            <a:ext cx="1981080" cy="206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14" y="373"/>
                </a:moveTo>
                <a:arcTo wR="10800" hR="10800" stAng="-4493961" swAng="1831127"/>
                <a:lnTo>
                  <a:pt x="10800" y="10800"/>
                </a:lnTo>
                <a:close/>
              </a:path>
              <a:path fill="none" w="21600" h="21600">
                <a:moveTo>
                  <a:pt x="13614" y="373"/>
                </a:moveTo>
                <a:arcTo wR="10800" hR="10800" stAng="-4493961" swAng="1831127"/>
              </a:path>
            </a:pathLst>
          </a:custGeom>
          <a:noFill/>
          <a:ln w="28440">
            <a:solidFill>
              <a:srgbClr val="80808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047760" y="5223240"/>
            <a:ext cx="198108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3351"/>
                </a:moveTo>
                <a:arcTo wR="10800" hR="10800" stAng="-2616509" swAng="2616509"/>
                <a:lnTo>
                  <a:pt x="10800" y="10800"/>
                </a:lnTo>
                <a:close/>
              </a:path>
              <a:path fill="none" w="21600" h="21600">
                <a:moveTo>
                  <a:pt x="18620" y="3351"/>
                </a:moveTo>
                <a:arcTo wR="10800" hR="10800" stAng="-2616509" swAng="2616509"/>
              </a:path>
            </a:pathLst>
          </a:custGeom>
          <a:noFill/>
          <a:ln w="28440">
            <a:solidFill>
              <a:srgbClr val="80808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8" name=""/>
          <p:cNvCxnSpPr>
            <a:endCxn id="1611" idx="3"/>
          </p:cNvCxnSpPr>
          <p:nvPr/>
        </p:nvCxnSpPr>
        <p:spPr>
          <a:xfrm flipV="1">
            <a:off x="4068720" y="2201400"/>
            <a:ext cx="2659680" cy="40154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grpSp>
        <p:nvGrpSpPr>
          <p:cNvPr id="1619" name=""/>
          <p:cNvGrpSpPr/>
          <p:nvPr/>
        </p:nvGrpSpPr>
        <p:grpSpPr>
          <a:xfrm>
            <a:off x="8077320" y="5410080"/>
            <a:ext cx="559800" cy="457200"/>
            <a:chOff x="8077320" y="5410080"/>
            <a:chExt cx="559800" cy="457200"/>
          </a:xfrm>
        </p:grpSpPr>
        <p:sp>
          <p:nvSpPr>
            <p:cNvPr id="1563" name=""/>
            <p:cNvSpPr/>
            <p:nvPr/>
          </p:nvSpPr>
          <p:spPr>
            <a:xfrm>
              <a:off x="8077320" y="57150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163720" y="5410080"/>
              <a:ext cx="47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Franklin Gothic Medium Cond"/>
                </a:rPr>
                <a:t>w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1" name=""/>
          <p:cNvSpPr/>
          <p:nvPr/>
        </p:nvSpPr>
        <p:spPr>
          <a:xfrm>
            <a:off x="5031360" y="5257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anklin Gothic Medium Cond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"/>
          <p:cNvSpPr/>
          <p:nvPr/>
        </p:nvSpPr>
        <p:spPr>
          <a:xfrm>
            <a:off x="4056120" y="1676520"/>
            <a:ext cx="457200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056120" y="2131920"/>
            <a:ext cx="457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056120" y="258768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056120" y="3043080"/>
            <a:ext cx="457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056120" y="349884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056120" y="395460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56120" y="4410000"/>
            <a:ext cx="457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56120" y="486576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056120" y="5321160"/>
            <a:ext cx="457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056120" y="577692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8160840" y="1668600"/>
            <a:ext cx="180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770580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7249680" y="1668600"/>
            <a:ext cx="180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679464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633888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5882760" y="1668600"/>
            <a:ext cx="180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542772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4971600" y="1668600"/>
            <a:ext cx="180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4516560" y="1668600"/>
            <a:ext cx="1440" cy="457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491640" y="15238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491640" y="19782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491640" y="243216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491640" y="28861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491640" y="33400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491640" y="379404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491640" y="4248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491640" y="47023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491640" y="51562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491640" y="561024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491640" y="60642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3872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9300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4728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0156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5584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012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6440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1868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7296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724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815280" y="62928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ranklin Gothic Medium Cond"/>
              </a:rPr>
              <a:t>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979800" y="2057400"/>
            <a:ext cx="152640" cy="15228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037040" y="6230880"/>
            <a:ext cx="36360" cy="36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894200" y="2514600"/>
            <a:ext cx="152640" cy="15228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723000" y="3429000"/>
            <a:ext cx="152640" cy="15228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637400" y="5257800"/>
            <a:ext cx="152640" cy="15228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029480" y="1752480"/>
            <a:ext cx="46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Franklin Gothic Medium Con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943880" y="2209680"/>
            <a:ext cx="46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Franklin Gothic Medium Con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772680" y="3124080"/>
            <a:ext cx="46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Franklin Gothic Medium Con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687080" y="4952880"/>
            <a:ext cx="46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Franklin Gothic Medium C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2" name=""/>
          <p:cNvCxnSpPr>
            <a:stCxn id="1664" idx="0"/>
            <a:endCxn id="1663" idx="4"/>
          </p:cNvCxnSpPr>
          <p:nvPr/>
        </p:nvCxnSpPr>
        <p:spPr>
          <a:xfrm flipV="1">
            <a:off x="4055760" y="2223720"/>
            <a:ext cx="1080" cy="40075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673" name=""/>
          <p:cNvCxnSpPr>
            <a:stCxn id="1664" idx="7"/>
            <a:endCxn id="1665" idx="3"/>
          </p:cNvCxnSpPr>
          <p:nvPr/>
        </p:nvCxnSpPr>
        <p:spPr>
          <a:xfrm flipV="1">
            <a:off x="4068360" y="2658240"/>
            <a:ext cx="848520" cy="35773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674" name=""/>
          <p:cNvCxnSpPr>
            <a:stCxn id="1664" idx="7"/>
            <a:endCxn id="1666" idx="3"/>
          </p:cNvCxnSpPr>
          <p:nvPr/>
        </p:nvCxnSpPr>
        <p:spPr>
          <a:xfrm flipV="1">
            <a:off x="4068360" y="3573000"/>
            <a:ext cx="2677320" cy="26625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675" name=""/>
          <p:cNvSpPr/>
          <p:nvPr/>
        </p:nvSpPr>
        <p:spPr>
          <a:xfrm>
            <a:off x="5808600" y="4343400"/>
            <a:ext cx="152640" cy="15228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858280" y="4038480"/>
            <a:ext cx="46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ranklin Gothic Medium Cond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Franklin Gothic Medium Con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7" name=""/>
          <p:cNvCxnSpPr>
            <a:stCxn id="1664" idx="7"/>
            <a:endCxn id="1667" idx="2"/>
          </p:cNvCxnSpPr>
          <p:nvPr/>
        </p:nvCxnSpPr>
        <p:spPr>
          <a:xfrm flipV="1">
            <a:off x="4068360" y="5333760"/>
            <a:ext cx="3555000" cy="9021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67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-650880" y="223920"/>
            <a:ext cx="761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Escalamiento multidimensional ponderado </a:t>
            </a:r>
            <a:r>
              <a:rPr b="0" lang="en-US" sz="1800" spc="-1" strike="noStrike">
                <a:solidFill>
                  <a:srgbClr val="ff9900"/>
                </a:solidFill>
                <a:latin typeface="Franklin Gothic Medium Cond"/>
              </a:rPr>
              <a:t>(EMDP): Pesos aplan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990720" y="2286000"/>
            <a:ext cx="68580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990720" y="2895480"/>
            <a:ext cx="68580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990720" y="3505320"/>
            <a:ext cx="68580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990720" y="4114800"/>
            <a:ext cx="68580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828800" y="1676520"/>
            <a:ext cx="68580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Dim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828800" y="2286000"/>
            <a:ext cx="68580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828800" y="2895480"/>
            <a:ext cx="68580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828800" y="3505320"/>
            <a:ext cx="68580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828800" y="4114800"/>
            <a:ext cx="68580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04920" y="2286000"/>
            <a:ext cx="53316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w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04920" y="2895480"/>
            <a:ext cx="53316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w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04920" y="3505320"/>
            <a:ext cx="53316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w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04920" y="4114800"/>
            <a:ext cx="53316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w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990720" y="4724280"/>
            <a:ext cx="68580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828800" y="4724280"/>
            <a:ext cx="68580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04920" y="4724280"/>
            <a:ext cx="53316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w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Franklin Gothic Medium Con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2666880" y="1676520"/>
            <a:ext cx="685800" cy="3504960"/>
            <a:chOff x="2666880" y="1676520"/>
            <a:chExt cx="685800" cy="3504960"/>
          </a:xfrm>
        </p:grpSpPr>
        <p:sp>
          <p:nvSpPr>
            <p:cNvPr id="1697" name=""/>
            <p:cNvSpPr/>
            <p:nvPr/>
          </p:nvSpPr>
          <p:spPr>
            <a:xfrm>
              <a:off x="2666880" y="1676520"/>
              <a:ext cx="685800" cy="45720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Apla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666880" y="22860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-0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666880" y="28954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-0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666880" y="350532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666880" y="411480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666880" y="4724280"/>
              <a:ext cx="685800" cy="4572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3" name=""/>
          <p:cNvSpPr/>
          <p:nvPr/>
        </p:nvSpPr>
        <p:spPr>
          <a:xfrm>
            <a:off x="990720" y="1676520"/>
            <a:ext cx="68580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Franklin Gothic Medium Cond"/>
              </a:rPr>
              <a:t>Dim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04920" y="1676520"/>
            <a:ext cx="533160" cy="457200"/>
          </a:xfrm>
          <a:prstGeom prst="rect">
            <a:avLst/>
          </a:prstGeom>
          <a:solidFill>
            <a:srgbClr val="4d4d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3962520" y="1371600"/>
            <a:ext cx="4662000" cy="4876920"/>
            <a:chOff x="3962520" y="1371600"/>
            <a:chExt cx="4662000" cy="4876920"/>
          </a:xfrm>
        </p:grpSpPr>
        <p:sp>
          <p:nvSpPr>
            <p:cNvPr id="1706" name=""/>
            <p:cNvSpPr/>
            <p:nvPr/>
          </p:nvSpPr>
          <p:spPr>
            <a:xfrm>
              <a:off x="4038480" y="1676520"/>
              <a:ext cx="4572000" cy="45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853600" y="320040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0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5791320" y="34286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024800" y="137160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0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3962520" y="15998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157240" y="548640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Franklin Gothic Medium Cond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8094600" y="571464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3" name=""/>
          <p:cNvGrpSpPr/>
          <p:nvPr/>
        </p:nvGrpSpPr>
        <p:grpSpPr>
          <a:xfrm>
            <a:off x="3962520" y="1600200"/>
            <a:ext cx="3827520" cy="3809880"/>
            <a:chOff x="3962520" y="1600200"/>
            <a:chExt cx="3827520" cy="3809880"/>
          </a:xfrm>
        </p:grpSpPr>
        <p:sp>
          <p:nvSpPr>
            <p:cNvPr id="1714" name=""/>
            <p:cNvSpPr/>
            <p:nvPr/>
          </p:nvSpPr>
          <p:spPr>
            <a:xfrm>
              <a:off x="6248520" y="38862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962520" y="16002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94200" y="25146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637400" y="52578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8" name="OUTPUT9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6563160" y="41760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P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800" y="22392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troducción: ¿Qué es el escalamiento multidimension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6000" y="1981080"/>
            <a:ext cx="6858000" cy="2667240"/>
            <a:chOff x="2286000" y="1981080"/>
            <a:chExt cx="6858000" cy="2667240"/>
          </a:xfrm>
        </p:grpSpPr>
        <p:sp>
          <p:nvSpPr>
            <p:cNvPr id="184" name=""/>
            <p:cNvSpPr/>
            <p:nvPr/>
          </p:nvSpPr>
          <p:spPr>
            <a:xfrm>
              <a:off x="2286000" y="1981080"/>
              <a:ext cx="6858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72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</a:t>
              </a:r>
              <a:r>
                <a:rPr b="0" lang="en-US" sz="2000" spc="-1" strike="noStrike">
                  <a:solidFill>
                    <a:srgbClr val="ffffff"/>
                  </a:solidFill>
                  <a:latin typeface="Franklin Gothic Medium Cond"/>
                </a:rPr>
                <a:t> </a:t>
              </a:r>
              <a:r>
                <a:rPr b="0" lang="en-US" sz="2000" spc="-1" strike="noStrike">
                  <a:solidFill>
                    <a:srgbClr val="ff9900"/>
                  </a:solidFill>
                  <a:latin typeface="Franklin Gothic Medium Cond"/>
                </a:rPr>
                <a:t>Datos de similitud-disimili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0" y="2819520"/>
              <a:ext cx="6858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72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</a:t>
              </a:r>
              <a:r>
                <a:rPr b="0" lang="en-US" sz="2000" spc="-1" strike="noStrike">
                  <a:solidFill>
                    <a:srgbClr val="ffffff"/>
                  </a:solidFill>
                  <a:latin typeface="Franklin Gothic Medium Cond"/>
                </a:rPr>
                <a:t> </a:t>
              </a:r>
              <a:r>
                <a:rPr b="0" lang="en-US" sz="2000" spc="-1" strike="noStrike">
                  <a:solidFill>
                    <a:srgbClr val="ff9900"/>
                  </a:solidFill>
                  <a:latin typeface="Franklin Gothic Medium Cond"/>
                </a:rPr>
                <a:t>Datos de prefer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6000" y="3657600"/>
              <a:ext cx="6858000" cy="990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72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ranklin Gothic Medium Cond"/>
                </a:rPr>
                <a:t>Acerca de todas las posibles combin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ranklin Gothic Medium Cond"/>
                </a:rPr>
                <a:t>de pares de objetos a investig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286000" y="4800600"/>
            <a:ext cx="6858000" cy="190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No se requiere un conocimiento previo de los atributos en los que los sujetos se basan para emitir sus ju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Dichos atributos se deducen a partir de la configuración del mapa perceptual resul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189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0" y="365760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0" name="OUTPUT31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9200"/>
          </a:xfrm>
          <a:prstGeom prst="rect">
            <a:avLst/>
          </a:prstGeom>
          <a:ln w="0">
            <a:noFill/>
          </a:ln>
        </p:spPr>
      </p:pic>
      <p:sp>
        <p:nvSpPr>
          <p:cNvPr id="1721" name=""/>
          <p:cNvSpPr/>
          <p:nvPr/>
        </p:nvSpPr>
        <p:spPr>
          <a:xfrm>
            <a:off x="6519600" y="41760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EMDP no métrico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2360" y="223920"/>
            <a:ext cx="72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troducción: Una visión simplificada del funcionamiento del E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atriz de disimil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438280" y="2286000"/>
            <a:ext cx="6324840" cy="4191120"/>
            <a:chOff x="2438280" y="2286000"/>
            <a:chExt cx="6324840" cy="4191120"/>
          </a:xfrm>
        </p:grpSpPr>
        <p:sp>
          <p:nvSpPr>
            <p:cNvPr id="202" name=""/>
            <p:cNvSpPr/>
            <p:nvPr/>
          </p:nvSpPr>
          <p:spPr>
            <a:xfrm>
              <a:off x="2438280" y="22860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22860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22860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81480" y="22860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5880" y="22860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10280" y="22860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24680" y="22860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38280" y="289548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38280" y="3505320"/>
              <a:ext cx="838440" cy="533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8280" y="41148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38280" y="472428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38280" y="5334120"/>
              <a:ext cx="838440" cy="533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8280" y="59436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352680" y="2895480"/>
            <a:ext cx="5410440" cy="3581640"/>
            <a:chOff x="3352680" y="2895480"/>
            <a:chExt cx="5410440" cy="3581640"/>
          </a:xfrm>
        </p:grpSpPr>
        <p:sp>
          <p:nvSpPr>
            <p:cNvPr id="216" name=""/>
            <p:cNvSpPr/>
            <p:nvPr/>
          </p:nvSpPr>
          <p:spPr>
            <a:xfrm>
              <a:off x="33526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670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814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58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246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52680" y="2895480"/>
            <a:ext cx="5410440" cy="3581640"/>
            <a:chOff x="3352680" y="2895480"/>
            <a:chExt cx="5410440" cy="3581640"/>
          </a:xfrm>
        </p:grpSpPr>
        <p:sp>
          <p:nvSpPr>
            <p:cNvPr id="223" name=""/>
            <p:cNvSpPr/>
            <p:nvPr/>
          </p:nvSpPr>
          <p:spPr>
            <a:xfrm>
              <a:off x="33526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526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526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526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526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670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670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70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670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670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814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814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4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814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958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958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958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958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102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102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102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102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102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246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246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246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246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246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95880" y="4724280"/>
            <a:ext cx="1752840" cy="1143000"/>
            <a:chOff x="6095880" y="4724280"/>
            <a:chExt cx="1752840" cy="1143000"/>
          </a:xfrm>
        </p:grpSpPr>
        <p:sp>
          <p:nvSpPr>
            <p:cNvPr id="254" name=""/>
            <p:cNvSpPr/>
            <p:nvPr/>
          </p:nvSpPr>
          <p:spPr>
            <a:xfrm>
              <a:off x="6095880" y="5334120"/>
              <a:ext cx="838440" cy="533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10280" y="472428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10280" y="5334120"/>
            <a:ext cx="1752840" cy="1143000"/>
            <a:chOff x="7010280" y="5334120"/>
            <a:chExt cx="1752840" cy="1143000"/>
          </a:xfrm>
        </p:grpSpPr>
        <p:sp>
          <p:nvSpPr>
            <p:cNvPr id="257" name=""/>
            <p:cNvSpPr/>
            <p:nvPr/>
          </p:nvSpPr>
          <p:spPr>
            <a:xfrm>
              <a:off x="7010280" y="59436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4680" y="5334120"/>
              <a:ext cx="838440" cy="533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52680" y="2895480"/>
            <a:ext cx="5410440" cy="3581640"/>
            <a:chOff x="3352680" y="2895480"/>
            <a:chExt cx="5410440" cy="3581640"/>
          </a:xfrm>
        </p:grpSpPr>
        <p:sp>
          <p:nvSpPr>
            <p:cNvPr id="260" name=""/>
            <p:cNvSpPr/>
            <p:nvPr/>
          </p:nvSpPr>
          <p:spPr>
            <a:xfrm>
              <a:off x="33526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526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526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526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526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670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670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670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814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814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14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958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958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102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52680" y="289548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3505320"/>
              <a:ext cx="838440" cy="533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81480" y="41148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95880" y="472428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10280" y="5334120"/>
              <a:ext cx="838440" cy="533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24680" y="59436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70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814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814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958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958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58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102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102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102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102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246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246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246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246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246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362320" y="2209680"/>
            <a:ext cx="6629400" cy="4496040"/>
            <a:chOff x="2362320" y="2209680"/>
            <a:chExt cx="6629400" cy="4496040"/>
          </a:xfrm>
        </p:grpSpPr>
        <p:sp>
          <p:nvSpPr>
            <p:cNvPr id="297" name=""/>
            <p:cNvSpPr/>
            <p:nvPr/>
          </p:nvSpPr>
          <p:spPr>
            <a:xfrm>
              <a:off x="2362320" y="2209680"/>
              <a:ext cx="6629400" cy="4496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38280" y="22860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52680" y="22860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67080" y="22860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81480" y="22860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95880" y="22860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8280" y="289548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38280" y="3505320"/>
              <a:ext cx="838440" cy="533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38280" y="41148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280" y="472428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26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526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526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670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670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814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2680" y="289548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67080" y="3505320"/>
              <a:ext cx="838440" cy="533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81480" y="411480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5880" y="4724280"/>
              <a:ext cx="838440" cy="533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670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814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14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5880" y="28954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58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58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Franklin Gothic Medium Cond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819520" y="6095880"/>
            <a:ext cx="5790960" cy="304920"/>
            <a:chOff x="2819520" y="6095880"/>
            <a:chExt cx="5790960" cy="304920"/>
          </a:xfrm>
        </p:grpSpPr>
        <p:sp>
          <p:nvSpPr>
            <p:cNvPr id="324" name=""/>
            <p:cNvSpPr/>
            <p:nvPr/>
          </p:nvSpPr>
          <p:spPr>
            <a:xfrm>
              <a:off x="2819520" y="6095880"/>
              <a:ext cx="30456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6095880"/>
              <a:ext cx="30492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29000" y="6095880"/>
              <a:ext cx="30492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33920" y="6095880"/>
              <a:ext cx="30456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8480" y="6095880"/>
              <a:ext cx="30492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43400" y="6095880"/>
              <a:ext cx="30492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48320" y="6095880"/>
              <a:ext cx="30456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52880" y="6095880"/>
              <a:ext cx="30492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57800" y="6095880"/>
              <a:ext cx="30492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62720" y="6095880"/>
              <a:ext cx="30456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67280" y="6095880"/>
              <a:ext cx="30492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72200" y="6095880"/>
              <a:ext cx="30492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7120" y="6095880"/>
              <a:ext cx="30456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81680" y="6095880"/>
              <a:ext cx="30492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86600" y="6095880"/>
              <a:ext cx="30492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91520" y="6095880"/>
              <a:ext cx="30456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6080" y="6095880"/>
              <a:ext cx="30492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01000" y="6095880"/>
              <a:ext cx="30492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05920" y="6095880"/>
              <a:ext cx="304560" cy="304920"/>
            </a:xfrm>
            <a:prstGeom prst="rect">
              <a:avLst/>
            </a:prstGeom>
            <a:solidFill>
              <a:srgbClr val="4d4d4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Franklin Gothic Medium Cond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038480" y="5791320"/>
            <a:ext cx="914400" cy="304560"/>
            <a:chOff x="4038480" y="5791320"/>
            <a:chExt cx="914400" cy="304560"/>
          </a:xfrm>
        </p:grpSpPr>
        <p:sp>
          <p:nvSpPr>
            <p:cNvPr id="344" name=""/>
            <p:cNvSpPr/>
            <p:nvPr/>
          </p:nvSpPr>
          <p:spPr>
            <a:xfrm>
              <a:off x="4038480" y="5791320"/>
              <a:ext cx="304920" cy="30456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48320" y="5791320"/>
              <a:ext cx="304560" cy="30456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001000" y="5791320"/>
            <a:ext cx="304920" cy="3045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 C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Franklin Gothic Medium Cond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209680" y="2139480"/>
            <a:ext cx="6775920" cy="4644000"/>
            <a:chOff x="2209680" y="2139480"/>
            <a:chExt cx="6775920" cy="4644000"/>
          </a:xfrm>
        </p:grpSpPr>
        <p:sp>
          <p:nvSpPr>
            <p:cNvPr id="360" name=""/>
            <p:cNvSpPr/>
            <p:nvPr/>
          </p:nvSpPr>
          <p:spPr>
            <a:xfrm>
              <a:off x="2286000" y="2209680"/>
              <a:ext cx="6629400" cy="4496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53080" y="64152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imensió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1627560" y="27216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imensió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90920" y="2362320"/>
              <a:ext cx="6095880" cy="403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15000" y="329076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23920" y="33670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34120" y="336708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46640" y="34434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8680" y="23623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90920" y="438156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59680" y="451008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65720" y="45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05520" y="579132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19120" y="5867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375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0" y="365760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762120"/>
            <a:ext cx="7543800" cy="6095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2360" y="223920"/>
            <a:ext cx="72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Franklin Gothic Medium Cond"/>
              </a:rPr>
              <a:t>Introducción: Una visión simplificada del funcionamiento del E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0" y="1143000"/>
            <a:ext cx="6858000" cy="685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 Cond"/>
              </a:rPr>
              <a:t>Matriz de disimil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286000" y="2139480"/>
            <a:ext cx="6775920" cy="4644000"/>
            <a:chOff x="2286000" y="2139480"/>
            <a:chExt cx="6775920" cy="4644000"/>
          </a:xfrm>
        </p:grpSpPr>
        <p:sp>
          <p:nvSpPr>
            <p:cNvPr id="388" name=""/>
            <p:cNvSpPr/>
            <p:nvPr/>
          </p:nvSpPr>
          <p:spPr>
            <a:xfrm>
              <a:off x="7529400" y="64152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imensió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1703880" y="27216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imensió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67240" y="2362320"/>
              <a:ext cx="6095880" cy="403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91320" y="329076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00240" y="33670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10440" y="336708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22960" y="34434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15000" y="23623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7240" y="438156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36000" y="451008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42040" y="45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81840" y="5791320"/>
              <a:ext cx="108000" cy="108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95440" y="5867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Franklin Gothic Medium C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362320" y="2209680"/>
            <a:ext cx="6553080" cy="4496040"/>
            <a:chOff x="2362320" y="2209680"/>
            <a:chExt cx="6553080" cy="4496040"/>
          </a:xfrm>
        </p:grpSpPr>
        <p:sp>
          <p:nvSpPr>
            <p:cNvPr id="402" name=""/>
            <p:cNvSpPr/>
            <p:nvPr/>
          </p:nvSpPr>
          <p:spPr>
            <a:xfrm>
              <a:off x="2362320" y="2209680"/>
              <a:ext cx="6553080" cy="4496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2438280" y="2286000"/>
              <a:ext cx="6324840" cy="4191120"/>
              <a:chOff x="2438280" y="2286000"/>
              <a:chExt cx="6324840" cy="4191120"/>
            </a:xfrm>
          </p:grpSpPr>
          <p:sp>
            <p:nvSpPr>
              <p:cNvPr id="404" name=""/>
              <p:cNvSpPr/>
              <p:nvPr/>
            </p:nvSpPr>
            <p:spPr>
              <a:xfrm>
                <a:off x="2438280" y="2286000"/>
                <a:ext cx="838440" cy="53352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352680" y="22860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67080" y="22860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181480" y="22860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95880" y="22860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010280" y="22860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924680" y="22860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438280" y="289548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38280" y="3505320"/>
                <a:ext cx="838440" cy="533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38280" y="41148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438280" y="472428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38280" y="5334120"/>
                <a:ext cx="838440" cy="533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438280" y="59436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3352680" y="2895480"/>
              <a:ext cx="5410440" cy="3581640"/>
              <a:chOff x="3352680" y="2895480"/>
              <a:chExt cx="5410440" cy="3581640"/>
            </a:xfrm>
          </p:grpSpPr>
          <p:sp>
            <p:nvSpPr>
              <p:cNvPr id="418" name=""/>
              <p:cNvSpPr/>
              <p:nvPr/>
            </p:nvSpPr>
            <p:spPr>
              <a:xfrm>
                <a:off x="3352680" y="289548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267080" y="3505320"/>
                <a:ext cx="838440" cy="533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181480" y="41148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95880" y="472428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010280" y="5334120"/>
                <a:ext cx="838440" cy="533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924680" y="5943600"/>
                <a:ext cx="838440" cy="53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3352680" y="35053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526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3526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526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526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67080" y="41148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70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670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670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81480" y="472428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814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814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5880" y="5334120"/>
              <a:ext cx="838440" cy="5331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10280" y="5943600"/>
              <a:ext cx="838440" cy="533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Medium Cond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209680" y="2139480"/>
            <a:ext cx="6775920" cy="4644000"/>
            <a:chOff x="2209680" y="2139480"/>
            <a:chExt cx="6775920" cy="4644000"/>
          </a:xfrm>
        </p:grpSpPr>
        <p:sp>
          <p:nvSpPr>
            <p:cNvPr id="440" name=""/>
            <p:cNvSpPr/>
            <p:nvPr/>
          </p:nvSpPr>
          <p:spPr>
            <a:xfrm>
              <a:off x="2286000" y="2209680"/>
              <a:ext cx="6629400" cy="4496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209680" y="2139480"/>
              <a:ext cx="6775920" cy="4644000"/>
              <a:chOff x="2209680" y="2139480"/>
              <a:chExt cx="6775920" cy="4644000"/>
            </a:xfrm>
          </p:grpSpPr>
          <p:sp>
            <p:nvSpPr>
              <p:cNvPr id="442" name=""/>
              <p:cNvSpPr/>
              <p:nvPr/>
            </p:nvSpPr>
            <p:spPr>
              <a:xfrm>
                <a:off x="7453080" y="641520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imensión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6200000">
                <a:off x="1627560" y="272160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imensión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90920" y="2362320"/>
                <a:ext cx="6095880" cy="4038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15000" y="3290760"/>
                <a:ext cx="108000" cy="108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300480" y="3962520"/>
                <a:ext cx="108000" cy="108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623920" y="336708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334120" y="3367080"/>
                <a:ext cx="108000" cy="108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246640" y="344340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15160" y="403848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38680" y="236232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90920" y="4381560"/>
                <a:ext cx="60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159680" y="4510080"/>
                <a:ext cx="108000" cy="108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065720" y="458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15200" y="4343400"/>
                <a:ext cx="108000" cy="108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229880" y="4419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105520" y="5791320"/>
                <a:ext cx="108000" cy="108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19120" y="58672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Franklin Gothic Medium Cond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0" y="3657600"/>
            <a:ext cx="1600200" cy="2973600"/>
            <a:chOff x="0" y="3657600"/>
            <a:chExt cx="1600200" cy="2973600"/>
          </a:xfrm>
        </p:grpSpPr>
        <p:sp>
          <p:nvSpPr>
            <p:cNvPr id="460" name=""/>
            <p:cNvSpPr/>
            <p:nvPr/>
          </p:nvSpPr>
          <p:spPr>
            <a:xfrm>
              <a:off x="0" y="4191120"/>
              <a:ext cx="1600200" cy="4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Proceso de elabo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47545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Modelos bás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528804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jemp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0" y="58212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Esqu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635472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Aplic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3657600"/>
              <a:ext cx="16002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Franklin Gothic Medium Cond"/>
                </a:rPr>
                <a:t>int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0" y="365760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Franklin Gothic Medium Cond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03:29:02Z</dcterms:created>
  <dc:creator>Homework</dc:creator>
  <dc:description/>
  <dc:language>en-US</dc:language>
  <cp:lastModifiedBy>joibanez</cp:lastModifiedBy>
  <dcterms:modified xsi:type="dcterms:W3CDTF">2001-04-16T18:12:28Z</dcterms:modified>
  <cp:revision>209</cp:revision>
  <dc:subject/>
  <dc:title>Sin título de diapositiva</dc:title>
</cp:coreProperties>
</file>